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4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3.png" ContentType="image/png"/>
  <Override PartName="/ppt/media/image13.jpeg" ContentType="image/jpeg"/>
  <Override PartName="/ppt/media/image29.jpeg" ContentType="image/jpeg"/>
  <Override PartName="/ppt/media/image5.png" ContentType="image/png"/>
  <Override PartName="/ppt/media/image27.jpeg" ContentType="image/jpeg"/>
  <Override PartName="/ppt/media/image52.png" ContentType="image/png"/>
  <Override PartName="/ppt/media/image31.jpeg" ContentType="image/jpeg"/>
  <Override PartName="/ppt/media/image40.wmf" ContentType="image/x-wmf"/>
  <Override PartName="/ppt/media/image7.jpeg" ContentType="image/jpeg"/>
  <Override PartName="/ppt/media/image28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45.png" ContentType="image/png"/>
  <Override PartName="/ppt/media/image33.jpeg" ContentType="image/jpeg"/>
  <Override PartName="/ppt/media/image30.wmf" ContentType="image/x-wmf"/>
  <Override PartName="/ppt/media/image46.jpeg" ContentType="image/jpeg"/>
  <Override PartName="/ppt/media/image48.png" ContentType="image/png"/>
  <Override PartName="/ppt/media/image32.jpeg" ContentType="image/jpeg"/>
  <Override PartName="/ppt/media/image49.wmf" ContentType="image/x-wmf"/>
  <Override PartName="/ppt/media/image51.png" ContentType="image/png"/>
  <Override PartName="/ppt/media/image50.png" ContentType="image/png"/>
  <Override PartName="/ppt/media/image11.wmf" ContentType="image/x-wmf"/>
  <Override PartName="/ppt/media/image17.jpeg" ContentType="image/jpeg"/>
  <Override PartName="/ppt/media/image26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6.png" ContentType="image/png"/>
  <Override PartName="/ppt/media/image36.png" ContentType="image/png"/>
  <Override PartName="/ppt/media/image10.png" ContentType="image/png"/>
  <Override PartName="/ppt/media/image47.png" ContentType="image/png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</p:sldMasterIdLst>
  <p:notesMasterIdLst>
    <p:notesMasterId r:id="rId43"/>
  </p:notesMasterIdLst>
  <p:sldIdLst>
    <p:sldId id="256" r:id="rId44"/>
    <p:sldId id="257" r:id="rId45"/>
    <p:sldId id="258" r:id="rId46"/>
    <p:sldId id="259" r:id="rId47"/>
    <p:sldId id="260" r:id="rId48"/>
    <p:sldId id="261" r:id="rId49"/>
    <p:sldId id="262" r:id="rId50"/>
    <p:sldId id="263" r:id="rId51"/>
    <p:sldId id="264" r:id="rId52"/>
    <p:sldId id="265" r:id="rId53"/>
    <p:sldId id="266" r:id="rId54"/>
    <p:sldId id="267" r:id="rId55"/>
    <p:sldId id="268" r:id="rId56"/>
    <p:sldId id="269" r:id="rId57"/>
    <p:sldId id="270" r:id="rId58"/>
    <p:sldId id="271" r:id="rId59"/>
    <p:sldId id="272" r:id="rId60"/>
    <p:sldId id="27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notesMaster" Target="notesMasters/notesMaster1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slide" Target="slides/slide5.xml"/><Relationship Id="rId49" Type="http://schemas.openxmlformats.org/officeDocument/2006/relationships/slide" Target="slides/slide6.xml"/><Relationship Id="rId50" Type="http://schemas.openxmlformats.org/officeDocument/2006/relationships/slide" Target="slides/slide7.xml"/><Relationship Id="rId51" Type="http://schemas.openxmlformats.org/officeDocument/2006/relationships/slide" Target="slides/slide8.xml"/><Relationship Id="rId52" Type="http://schemas.openxmlformats.org/officeDocument/2006/relationships/slide" Target="slides/slide9.xml"/><Relationship Id="rId53" Type="http://schemas.openxmlformats.org/officeDocument/2006/relationships/slide" Target="slides/slide10.xml"/><Relationship Id="rId54" Type="http://schemas.openxmlformats.org/officeDocument/2006/relationships/slide" Target="slides/slide11.xml"/><Relationship Id="rId55" Type="http://schemas.openxmlformats.org/officeDocument/2006/relationships/slide" Target="slides/slide12.xml"/><Relationship Id="rId56" Type="http://schemas.openxmlformats.org/officeDocument/2006/relationships/slide" Target="slides/slide13.xml"/><Relationship Id="rId57" Type="http://schemas.openxmlformats.org/officeDocument/2006/relationships/slide" Target="slides/slide14.xml"/><Relationship Id="rId58" Type="http://schemas.openxmlformats.org/officeDocument/2006/relationships/slide" Target="slides/slide15.xml"/><Relationship Id="rId59" Type="http://schemas.openxmlformats.org/officeDocument/2006/relationships/slide" Target="slides/slide16.xml"/><Relationship Id="rId60" Type="http://schemas.openxmlformats.org/officeDocument/2006/relationships/slide" Target="slides/slide17.xml"/><Relationship Id="rId61" Type="http://schemas.openxmlformats.org/officeDocument/2006/relationships/slide" Target="slides/slide1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 type="dt" idx="1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 type="ftr" idx="1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6"/>
          <p:cNvSpPr>
            <a:spLocks noGrp="1"/>
          </p:cNvSpPr>
          <p:nvPr>
            <p:ph type="sldNum" idx="1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DDEA-132E-4399-9DC7-08673E704B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3F0A-8745-43B7-AE1A-5B8228B4D0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% of all farmers cultivate maize on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% maize, groundn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% maize, paddy, b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%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73EC-9C34-442A-99EA-77AD3996B9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5CE1-F084-46FE-9383-635149A0C4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A1AC-D3C1-42EC-B5E6-F8D930C592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898200" y="4358880"/>
            <a:ext cx="5011560" cy="41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CB9D-F092-44B7-A6B1-0E02E6101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6AA7-7B9E-4F36-A9D9-2EF76250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8BA618-5527-4572-B001-8ED1E596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2B65D8-104D-4C77-9847-46259538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24ADB0-DEF1-4D36-B82D-6B0E594D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53A2F5-4B0E-4B2F-B903-FA391CBD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FFA19D-4913-4B58-8F08-83FDA5FA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D5BEFF-7EEF-479A-9C34-CD40E40D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731186-F4FF-4CF1-A8AE-9584B1C2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BA75E5-A26A-4776-8C90-5D3B1D558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363666-5BCA-4E54-9BB3-28EF0D343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668478-2FE7-47BC-854B-F1107D819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B4DC-0A78-49AA-BC30-C089D499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0EBBD5-B258-48BD-80E7-254B1887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A7943E-BD83-4D64-B4E5-4B64A0F0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954D33-A5AE-47D4-862B-FAF1880E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5DD481-AE41-4CD7-B61A-ABA430E5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DDF526-0A85-46A9-9B58-DE6832B2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F017EB-4EFB-455A-93F9-DBF92063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51B1F9-895B-48C5-AE28-52F37689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53CEAF-7C3D-4E7E-9773-E24470EA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CF0FA5-2C0E-4EFB-866D-8763E0A1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AA555F-4301-4808-BED4-AE0A5E242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9B49-3770-4232-9DB4-E503598A8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15A558-923D-4F99-B4FA-30728833D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4498839-8E56-4683-B912-D1E3ABA0A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5EC1585-63EC-4BD4-A57F-7092AC8D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DFF072-C056-4AEC-B733-CA9C03FF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E0B4A1E-9404-491E-8902-CCF30514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CAEF41-AB82-4755-BA73-29E0758E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FB3247-181B-45C0-AE5E-4E2332A0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834D495-37CF-45A6-BF27-07FC064B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755E476-FB41-4C2C-BA3B-1227CD88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D5964D0-1296-4736-9A52-D02AA396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5DEC-49E1-46ED-B0F7-895071D00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7D8355-F1A2-409A-9C2D-600563C5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D26C0CA-E0DF-409F-88A8-8AE286BB8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257A77F-F6CE-4610-AAE0-AA980ACDF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36AB648-A87C-412C-80A1-7C560C9B0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73B0FB9-8AD0-422D-88C7-654F2E14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1AFC2E7-BC32-4D22-BC3E-684D014F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9BD8C5-E718-4CAF-A3CB-36FAE35D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E62025C-BB95-490E-9344-B0E5D231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949D9B9-AB61-46DF-936F-404CC9F3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8FEA2D5-4261-4082-8B77-01A64E7F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EC2B-0A58-4444-A424-C03516FB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2AEBB8-00D6-4BDE-B229-BA5F8EC9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8E1472-11C6-4D18-9243-51123E80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59BA55A-9CD0-4990-80F8-37D7BA42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E2C36BE-9D24-4BC0-9486-D2F1917E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40E260-2415-428B-BEA9-CA4FEAB8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92D6FF-FF1A-4310-B2A7-30D42668B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1F7D54-9C16-44CA-AE98-7BE28088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A7CD21-5F1F-4038-8DAE-EB583A74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CC1A21-21A4-47C5-8D2D-E6C8F52A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A098BC2-F829-44E5-8426-AE1F621F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50F7-9986-46E8-82D4-894B420B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490806-10DC-498F-9CD2-46C09A84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9EF4D2-0B4C-43B6-9ACD-850B77E1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6476A3-42C2-4D71-8259-F181B949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3EE6B8-899F-409B-9F59-0465E8EB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881E16-B047-44FE-B380-11372555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CD4CAB-3A0D-4EB5-B083-AE5CE09F2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145688-2C03-4786-9ECF-168E7E781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1FBC7E0-0928-41F2-861D-6C5C8AB25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C34D7AE-CE80-4FBF-81D4-72E32136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D3D415F-CDA7-4D24-888A-D07B13FA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7F89-7E7A-4EC4-B0D1-78706DAA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091E9FA-92DF-4A02-B2F3-FDCDE094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A6EF428-F355-4522-BFA4-9F6E1F1C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8C0C37F-EC20-44FC-AE9E-AE503854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81C6DB8-3C1A-4E1F-A793-94045C22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F7ABEBC-DDF0-45EA-93E4-4984D709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85050CD-9BCC-42EB-B4F8-3F89495D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5AFD29B-E069-4C50-AB8F-C1D42317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8FA202C-8F3E-4384-9A1F-630B1E0E8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F72AE56-B94F-4547-90E5-27A14C313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E624752-CBD9-4313-927A-50FD54E0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2567-2C08-4D1D-9DF8-CF536E26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4F189C3-B731-4A8B-B2BE-5B428650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3BB0CC4-B020-4FBD-9DFD-223FE5B7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BFDEACE-9DBC-42BB-A351-93D462DA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0A6127D-D164-4F4B-B3E5-959DA2DC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34807CE-E219-4A9A-8F8C-7C3DAE77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5AA4E36-CCA5-49CC-BE63-9177EA9D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B741DCE-89AC-402F-BB12-3B54FE66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FD07E7E-4551-4B36-9B07-D8F75ACD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7A67631-91B9-424F-ACD9-43908D01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0D19751-61E2-478A-8AA6-7F3968821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7B5F-A5C7-45A4-82BB-94D6E947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050C10A-007F-409C-8191-CF43F7713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E4E60C1-2ADC-4877-842C-E840B64E6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2E122A7-F898-4A8E-A3AE-7E25A831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B9E4647-2CC4-46B8-88C3-49D7A7C5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E4A7F61-B00E-411B-B401-C65BF9C7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DB6859F-4307-4EE8-B49F-9209CAC5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9E47455-C0C3-429C-8C54-6B51C53A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CC7E0D1-6E79-402D-BC31-B7EED883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E295B44-F32B-41E9-BC63-F439AC50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463BC83-9705-411C-9F17-DF36F1E7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1559-E365-4E9D-B17E-6A8D75FD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77C851F-4DA2-4FD7-A33D-F48142DB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EAEAD0D-7056-4895-9809-DAB9CC489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F357EA7-76C3-46FE-A820-1187E301C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22B4A75-3BE6-472A-9EA8-70F8AB566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8FF52D6-9F7E-44F6-9EE0-0E421D52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9DE43CB-679C-4615-B435-D0B7AB6F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7D1C1EE-F569-47BC-9323-EC416839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3927F48-1F0B-467A-B109-16CA8ECD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CD4FD81-D35D-4531-B413-99C0D1E6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D8088F2-9BDB-4E4F-8ABC-72BC4338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EE0A-79F5-4236-9041-A5FA1175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5F50-F913-4732-A27D-C56C7C21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1BA6810-3F5B-4F42-8A79-DFB3013B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53C011F-D9EC-415B-B26A-71589396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7368308-FBBD-417B-8485-F7862BC2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DC442BB-F1DE-4C58-A78E-2A1F045A8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A046015-571A-4A19-922B-DB1CFA1BA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843AA85-04E5-4528-ACCB-3DE77DC3C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CDFC99C-45E9-4214-990B-E5D62A7E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4DF4F9B-F305-457B-847E-A61D1F3A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3C3A2EC-A700-4A8D-B597-038BC382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508B59B-A52D-4E21-B207-0EB2CDE7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9059-C880-4A04-ADF4-B7CAE103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BA63219-EA24-46B7-94DF-8672C8E0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E5D34FF-E29B-4158-A25B-DD58670E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1F044D3-34B8-4B89-9250-8991380A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FD50869-53B9-43E1-B563-2936C13A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AB40D2C-E6BB-48B6-8BDB-E2CB7CFE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E726385-34BF-4622-BF36-0109DD5CB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824564A-F997-4777-9BFE-19E578835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23B2F73-BF47-4180-97AE-EFF787557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0D3B870-EB91-4368-9A03-12651AE6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7C193C4-0D2C-4ECA-986C-6291A85A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6AE3-D47B-4468-BC3A-8D5ABA2F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A3EE8D2-AD54-4C4D-A37A-54323ECA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558E828-7AB0-44DF-9CBB-8FDB6D0D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8AFA6DF-01E9-4D18-BA5C-2C47CA86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92240B3-3296-40BD-91D8-2F0EFB28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5E019BD-6C3F-4762-8DE7-82501299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C0485E2-AF95-4D57-9305-3CA2BD57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7002453-A7A1-43E1-AF52-1A77C14E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40B4052-CC0D-4370-AC6F-0D38540CF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A9B53DE-57C4-4FA0-AA47-28051F2EB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6ECA-A8D5-45EB-9404-45498C66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0370-0A00-4F2E-A22D-D27FE63DE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E8445-7FB4-4563-BBDA-7573FB256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044E6-4778-4E1D-87BB-1A534BF2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98BED5C-6106-47FF-8731-23BFA9197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ABC3BA2-BFB9-4400-97CD-5272D96A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DF48D5A-11D8-491E-A74D-68280760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2C40A46-8CB4-4A64-8344-40DFC517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D658B92-037A-42F0-83E1-DF9ECCD0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7432E-784F-4FE8-A35B-E8BB8B9A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D8C5DE3-36F3-475F-8102-BEBE94DD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0A1BA29-D833-4C79-A7A7-5792261E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0CFB847-0DD7-4F35-837C-EAEC6AEB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1069AC9-9F08-4257-9B0B-158C94E8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FD83BDD-8B10-4913-98B0-D969FD5B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E6EB132-C9F0-4E83-92F7-635271010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26D29FA-F7B8-4FF3-8144-E3D28EC0B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CFB9BE3-3F44-46B3-817C-2B61AAEF8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3EFE2BD-6C6B-45BB-870A-0307FE52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765C045-B0D7-4C48-991F-89388706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1FB40-130C-4DBE-AF2B-AEE6E55B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4E23481-EE6C-44F6-BA11-1A8C1456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3DB3AD0-46F0-4F59-B2D4-514AC0B1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C648806-9DE0-42F3-BE98-B70108A5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A6D9AC6-F46C-432F-A6B4-3951CAF6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76A27A3-21FB-49AE-8371-15BAFF1F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AA4750F-E5B3-4712-88FD-28ABCD1F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739D97E-7091-4CFE-BE9C-C76A7C22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AB085B9-CC47-419B-9AEF-D32C740A5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0B9FCE4-3807-473C-A96B-FF4B55B97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475FFC4-FABE-46B8-A4F9-07EC1B40E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7E8BF-2DE4-43F0-A431-EC8375D8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00D6AA9-A723-4AFB-AAF3-B83115C0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1306D2D-D261-4F6A-8C8D-E50381DA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A78690E-A0E7-4515-A903-752E5358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5BCF328-D9CA-4949-A7B3-FD84CFCC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04C5BE3-5893-4419-93F4-8D8DE46E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9751C88-BCB8-4AD5-AD05-6916FD06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81456E1-FF9A-488F-9434-F47DC99D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074F1A4-4828-405E-AF2F-12A6F73B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978F02D-84EB-45AE-B482-84A20460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FBE831E-58EF-4798-9533-7C79639A9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15FD-3886-4B04-993E-E8300445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86701-AE9A-4C35-AE86-5A253278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9228C49-A1A2-41EC-8B9F-FB587A22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A011B87-E48A-4E7A-8521-22FC8C06D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A38742E-C444-4692-9D53-CA64B224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D48E3EB-88E9-40E7-B7CE-77ECBE87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8FCD028-6F47-4C5D-BA72-52088F82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B5DEDBA-FA55-48FF-A914-59949564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BCF83C2-1C2A-43B3-B0C2-18946891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4898813-7D26-489F-8E75-88D48583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2EB239F-49E4-42D6-8EE8-671F9C0B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E8DB44F-4B7B-4CD9-AAAC-B266F3E2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89149-1B29-4B9D-B80A-DA38EC56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32B93D6-3384-4A12-900A-C4BB7A6E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FE0B8B6-1A20-4FEE-AA87-B93B281BF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F082DBD-D6CA-405C-A05B-649E6EFA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71A4C-A84F-46E6-B2CC-2FC0D161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514B3-E302-4F7D-AF4D-DB949A67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031C32-3BDE-45FF-AE1B-385CAF19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5F029DA-93F1-4B9F-9AFB-FE9F4E53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B56073-AD8C-4B59-A801-5E3A5587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753A3-73AA-4C66-A4A9-229ADEC4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EEB68FE-2754-4698-9766-D87B4D37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D35711-EEA6-4C27-B45B-4B6D4A1B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535F5FF-6E47-4E44-8109-D27A228D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A5E1D9A-89CE-4AC4-B69D-FA26A07F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BF6DBED-A674-4FE4-AACF-F7C579C0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D869C4-0151-4463-A804-280F360B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3F1496E-6E77-45A7-A1C6-2A90FD96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9861CE-AFF4-4BBC-807F-E97EDF992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060F938-F2E4-493E-864C-4A04CE4CB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319D9B3-7AD1-447B-8B40-0B353237E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F3B32-F59B-4307-BA42-6DF40E262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F5C99E8-A0A7-4C50-AD08-60B65DA4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C036BE7-5576-428A-BCD2-8D5FACCD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FCEB47D-6C29-4751-ADED-3C962623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EB4DCF-900F-4E3A-BE5E-DB54802F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0033EB1-6016-4D1D-8E19-9A2F5CCD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C8E0D57-0573-4F25-ABDC-E5CB0A7C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B7C0F2A-1F6A-4675-9BF4-1BD892E3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DE3119-C29D-4E58-B1FE-5BA05E06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2B55CF0-0C9C-40FD-87D3-7330D22E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4337F91-3002-4C1E-B5EB-7A2387830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094C8-F281-442A-A701-EDE653988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8F0B82-491F-40F8-A1CC-86E80326A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0E6CFDF-F7E9-4AD2-A1EF-06962EB9B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2D25C80-9E32-428F-A4F6-D187A9F5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CDF6C01-9A76-4C09-89C6-35A58085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8C7C915-09CF-4CB9-8DC1-BD713793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A9598DE-79BC-451F-A1A8-64CB09D6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372BC1B-3390-4C0A-8A3E-706031E1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868B343-7FB2-4F73-BBB8-BDD7A199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B833D54-C8F8-45BB-BAF3-F278F128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91628CC-63EA-4DA3-B5F0-D1D4524B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4681D-C6AF-40BD-8C18-2902309A3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824F8E5-8704-4CC6-AE83-826DC756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B98BDBB-9EC7-499A-8378-3C1EE054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0557E68-EF2F-4075-8D9A-5B2744CB3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E9E5137-4985-4D0D-92FF-D8BCC08F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F5ED132-5393-4211-892D-2C77237C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90CADB-A8B1-4F0D-9999-67C59F0A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B705955-56B3-4F8F-A988-39E1C484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8B02AC3-FB62-43A9-B963-DE114665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A513F0-1720-4931-B686-9801AAEC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54FA09B-6DD7-462B-AEC0-483F121A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DD0D6-960D-4A16-92FF-421D5D1A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BDE1687-0687-4BE2-99B8-A0EC4F25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F78B659-CF61-497C-9F84-66151AF9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EE8B688-55BD-44FD-985C-1302DCC4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F7A7CA8-3042-4A2C-A32A-89CBE5252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9409DD3-1944-423B-9DC7-43BD8FB7E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0D6E8D5-7FE0-4B98-AFF4-64076BC76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6A66138-A6F5-4EB4-940D-1E7DE6C7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DEB4B14-4900-414A-B36B-99CBF6FC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C655697-7634-4FBF-92D2-708F6262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9585023-ACFB-453B-9311-D4B1750F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93274-49B6-47BA-A4C9-F19616D9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6F60905-E399-404F-B255-E8812592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BEB3741-E7A4-4E69-8F58-631B424A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EC20E9A-35D0-44E1-8767-C9D0DEEF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3D319D1-C090-41C8-9A92-2DD10183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48A3260-81CD-4CE9-9869-A4231F9B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77E4F60-6DEC-46E7-91A2-7E71F51E2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72783D2-9A27-499C-9F8F-059306DE3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798A04E-820E-4A72-ABBD-CB9C59E01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73EA47F-910E-4328-BF22-6AEA1E93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3537458-3A0B-4D3D-BA4E-17A6D3BC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702D-276C-46C4-850F-7AF93E86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50D57-C63A-43E8-9A21-C008B664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DC27604-A5D8-4AC9-A6E0-5724B95F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33B5044-0734-4BDE-8C74-FB265443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338D307-4498-4A0D-970B-B0F8BFA0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807B954-E705-493D-A769-8C412BB8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4FB32FD-8009-4BD5-B1D4-F8760717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A3183B4-77F1-4F9E-859E-66CE3E03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2E01106-B6BE-42D3-AA2B-BB84BF6A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14F635C-4A3B-4D03-9274-6490A6356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9A5AEF0-C555-4265-BFAB-06CCC2385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62D0659-3CB2-4596-ADED-B2C30565F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BBE75-F5A8-4DAD-B79E-4204B359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C40CA1F-8C67-4A22-AFC8-0E3C52A9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B05A050-5257-4AAE-B0F1-AD3AE008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3836A0A-B0C3-4EE4-9F80-F6D6B6BE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AED5096-3973-4248-B477-29511848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9B8D53D-8E04-43DC-8D55-F0F34073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393D611-EC60-40EB-90D1-9B63CBE7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EDED9C8-FA96-4835-BB7B-275F993D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92771AC-22C9-4F95-B173-A134198E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AE79865-AAFA-414F-95D0-EDA85789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002F850-7D88-415F-967B-A4A7A782B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0B027-E7ED-4A6F-8F3E-728BD5F8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6F3DEBA-7841-4197-AFBA-D10CFA08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65F99F6-A817-4A4E-B0AC-2E789A3B2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174596F-12EC-464B-AE03-021F8E23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F8191CF-76AF-400C-A342-BD728EA5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0FC2620-2FBD-457E-B8A1-933D771E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AAD5EE4-EC07-4D16-B460-9FB87D0B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730F451-6B84-49B6-9134-78E855BB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790C5DF-BE83-4A6B-BBD4-2D525733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B8C6943-39C7-45FF-A8D9-75797D5E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005D4D9-6D4B-4E1F-B578-FCB42D6B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354E1-E746-4198-B8FD-DA8CF187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8B3ADE1-800E-4ABD-9E94-D4C1FA33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F43F9AA-F70D-40D3-B2B0-EEF4D900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E237951-A177-4EFA-8285-3474BB510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F864682-B129-499E-8B8A-8C444500D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F02E56A-4727-4B96-B7E6-F16E701A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ECA5690-AC1A-4CE0-A5B1-70018356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BA0EE74-F29E-416B-B61A-196FF369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D2819C8-9641-4C21-86D2-269D3548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BC4EFDE-75A5-42B4-9CCC-ABCE4A4F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A98291A-9180-4B7A-A19F-9BD7268A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94245-36E1-4E49-9CF1-9C4C8DAA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F441D3E-908C-4C2E-95CB-81A53EED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B2419B3-239A-419E-891A-AE8E97E6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022349F-3E70-4D06-88AD-704AFB19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D1E25E7-C5D9-4355-84B3-ECB060962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93396EC-0D9B-460C-9530-73E426677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9997C18-88AF-48E9-B933-30D049B0A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3FEDE01-E421-441E-9E68-9BCCFF5D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4265BD0-C678-4EDA-B7B6-1E13209E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3B95698-F7CC-4333-96F3-839DC0DB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77065A7-8028-4791-B3C9-F000C912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D94E2-BB80-4193-8039-9FEC63A3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B67E57C-9FF2-4E31-91BC-8C68D6BC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44A14F0-5650-460B-8594-277BEB7B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D35D080-4690-42BE-A27C-B8C57E47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16C845B-1085-45C0-97C1-C7C9F5E6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68FE961-BC26-4EAE-A586-086ED42F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6B88AEB-455B-4400-A2C4-87D54B86C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5C7E56A-C8C0-46DE-830D-9316A3D8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4889E3A-B902-4DA7-931B-DAB09BB17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75B101D-5648-4834-B809-C6BD519A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6765E0C-6AA0-45C7-ABB5-35A29F6A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EC05A-9A85-4E1B-9EFC-2D2263E6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9731780-11B9-4120-85A3-BA80AF69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518BA53-9FEF-4606-8842-AE88280D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A240B1B-8316-4122-BFEA-12C91769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CC91121-E87C-435B-A632-8326AECE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BE9A6A3-71CE-4C1C-9191-39B8AD9E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1271F28-15FE-4772-8F92-0BB4D14E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3F31666-2E92-4AEA-A885-4FCED38A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A39649D-9625-48F3-97BB-BF6D1B084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F26A4AA-F64A-47B2-8681-77684DEF1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3068EB5-42D0-4387-810B-1CAB99185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104EE-856C-48AD-9504-C4A20AFB7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F14077A-5E16-4009-90B2-6BE9794A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B2DE17F-C8A3-4F41-9C73-15D9D951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309C183-358A-4D5A-B991-F0DDA482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4AF5DC6-F110-4992-8C94-0B35DFE6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D2C2748-F13B-4ED7-B129-F32F553A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C451A3A-5536-4793-AF9E-D071D8F0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7389596-7BCE-4BA2-84A1-E93F5002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6AA2F1E-CBEF-4205-BCD0-1E1457BF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AAB2DC3-458E-410E-A6F9-D7E1D4A2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886B5CC-0DF4-4262-9EF5-9B531E5E2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75562-9ED4-4098-BC57-E4A4108A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5EC4241-A134-4638-A0DB-8830487D3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F9B272D-5431-4A16-9E0A-F954DD031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83E7690-F7A3-4024-B8BC-257DC0DD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B23B604-3D41-4E58-87E1-8F8C2663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C7F68CD-5726-4C90-8C04-395D5D21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17F2E10-0171-4E93-8671-617E17B1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BA1B270-17A6-4469-A7F8-7DB0E475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F776560-3390-4BD2-802D-0EB946CD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E79F6EF-2F53-47D5-B878-5C71B8E8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4E4FD64-CB1D-4C0B-98A5-73119BB2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4E107-DDB1-41CD-AADD-5F5577ED5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BC083B3-6D27-4AA2-BB26-6FACD471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176E214-79E1-47A6-85AA-62A4FECBA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B6A2E7F-0368-40D4-B308-E426F4032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9CEE-2E2F-4B3B-AF08-A7733784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CDFAF-255C-4673-8970-93A9A729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6C276-0698-422E-A5FB-6FDE0314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9E47E-C8C2-4FEE-99F3-38B13BD1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230F8-B039-4D94-BDE6-8D697D53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D75EA-34A3-4220-99BF-B76D8064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0D9B8-3E16-4151-82EC-9325D423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F7324-A9F4-4693-ACD6-076B3CC1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C95C4-5327-473E-A4B8-C23A3993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C8D6A-8D45-45AA-9110-D73FE0CB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E893E-1434-4B3B-9704-81A71301F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B29A-C2EC-409F-B762-7284DFE6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33D3D-CAED-40B3-A6B3-44909AC81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C4427E-9299-402F-93B1-1AF925B125B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8F3C7D-26CC-4712-A9A9-A3A43CDC112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70F2AD-3696-4A6F-A0F9-13A5E94D752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7BDAC6-33B2-4530-AF2B-7846AEFA6BB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683E2C-4B3D-42A9-B48C-2D2AB099781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C6893D-3C6F-43E9-B727-B90C2D61562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BE8B74-CBDB-43BE-BF7A-D9BBCE17E54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AA0338-5AC5-40D2-99A2-625A7466793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26429E-40D4-462A-BC4F-08119FAD77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3D89-A306-4EA3-A05E-E0960C2A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9BAB70-2EFC-49B6-9EE7-8177E35E2D1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FAA7D9-EB8D-4AD4-B5CF-A7D68579E81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6588B7-224D-4E62-97A7-02C6BD57230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87BFE0-08A4-4F9B-BE53-243EF659A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E1A794-A9FF-4089-834A-7416C630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61E8E3-76D1-4AE0-8352-7BEC8021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D841D9-F592-4D00-BFD4-89A8B2AC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147900-99CD-493C-A892-33A1D62A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E3AF89-D08E-4EC9-920C-6E7B7C27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893B51-E8C7-4D16-BC5E-6400A85F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4854-7E4D-4DCB-BFA8-3E9CA9E9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F81466-34C0-4A83-8D97-9A195428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AEB275-C8B1-40EE-A921-3B1A29C6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F66534-865D-4EC2-9816-E9CB9173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B0582F-6188-4888-9425-37CFC6B74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5D0CB4-9AF1-45F9-AF45-C55D9A3EA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DA339A-3BC5-4371-B950-654911733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BA844B-3763-491B-9ABE-89C31BA9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DD46DE-5302-44F9-A53E-45BE3C8B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03406E-A4BA-4485-8FF9-BF0C0970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F9EECA-F524-4567-B7D6-7FBE2F32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B3A0-5B4A-44EB-B0A1-162BCA0F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167838-89E6-4ADA-8378-6C544BD6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587D3B-220D-4277-8D9A-2BCB10FD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B94DE8-7C73-4063-8E07-C9D4DD04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718DCF-2FEC-4CE9-A051-2DD9459A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B48D92-A2DE-4D83-8FFC-9AD56950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2AEA3A-490C-47E2-95EB-4B52F763B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836D11-EDE8-4CD0-B24C-39C28A1C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65730D-E449-48E2-A888-8C26F7BE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804F74-C5E7-410E-AAD1-013F3CB3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DF22F3-D67F-42E4-8201-94E93C96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2441-C3AB-4C7F-9E84-60FC82D680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A850-344F-471E-A100-1A9576CA37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3CAE-D3ED-4379-966C-FCF283B453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A538-6F56-45D7-AFFE-7BC68A5AC7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E12F-0A85-4C26-AD13-897A8E3E87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D42B-AD2D-4B22-B54A-945BDE5921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51DC-998A-4620-A207-3B4B3AFEFF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4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4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E1B0-A1EE-4B42-8DB5-E38C9262F3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90C5-F9C3-43F8-8302-3B2A5E97B0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5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5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9363-AC8C-4116-A32F-0F8450E5E7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740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DE1C-EC60-4870-AB4A-0643045530A1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5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6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91F0-352C-455A-B82A-B2ABE4996B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BCD4-251D-44B0-BDC6-181DF24668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821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ftr" idx="57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862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ftr" idx="58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2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903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754A-80BC-448F-A6EE-2753A41FFECB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60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61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73F9-BE7F-4C39-8BA4-650DF28CF9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946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 type="dt" idx="6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3F01-44F7-4F2C-8E23-605F7C1980A5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 type="ftr" idx="63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 type="sldNum" idx="64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D3BE-B3A9-4828-8C98-162B98D30E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8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989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 type="dt" idx="6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5C68-8794-443A-AD6A-7941F9D41307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 type="ftr" idx="66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 type="sldNum" idx="67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9ED7-C10D-4299-9660-B9E86066DE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032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 type="dt" idx="6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2845-6B37-4EE3-B574-B55C9EC272AF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 type="ftr" idx="69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 type="sldNum" idx="70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98A1-6861-40A9-8DC1-D9E3BDBC57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075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 type="dt" idx="7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A5B3-75D4-4837-A07D-FDF441358A0D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 type="ftr" idx="72"/>
          </p:nvPr>
        </p:nvSpPr>
        <p:spPr>
          <a:xfrm>
            <a:off x="6019560" y="6324120"/>
            <a:ext cx="289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4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155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FAC6-A64F-467B-94B2-3F69AB605D40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 type="ftr" idx="74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 type="sldNum" idx="75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49FF-BB74-47FF-A927-B574BC33DB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4E64-380A-4EA1-B022-F7F2780D8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7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198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F6C4-1CB0-4E9A-9042-553759E79CBF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 type="ftr" idx="77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 type="sldNum" idx="78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3985-5063-4585-B59F-A69282F90E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241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F0D2-DBB7-40DD-B82A-1914B9CAA7AF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 type="ftr" idx="80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 type="sldNum" idx="81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49B5-1778-4746-8339-F048E31211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F3C6-942D-4DC7-8BA3-6B1614373741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 type="ftr" idx="83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 type="sldNum" idx="84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F19E-B840-400B-9B5A-64A1C0E37F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6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327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011C-9B1A-4BEB-A375-B0F8C704745D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6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87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B435-5358-470A-893D-4144C764E8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9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370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FAB8-D11E-449F-BBC9-A3151DF81DD9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 type="ftr" idx="89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 type="sldNum" idx="90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A15B-B903-4C9F-9C27-06DD507718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2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413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BE03-779A-4896-86D8-645C530893EC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 type="ftr" idx="92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 type="sldNum" idx="93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5443-D6F6-4EBD-B45B-B3F1B07673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456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TextBox 7"/>
          <p:cNvSpPr/>
          <p:nvPr/>
        </p:nvSpPr>
        <p:spPr>
          <a:xfrm>
            <a:off x="454680" y="1687680"/>
            <a:ext cx="146088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Round Same Side Corner Rectangle 8"/>
          <p:cNvSpPr/>
          <p:nvPr/>
        </p:nvSpPr>
        <p:spPr>
          <a:xfrm>
            <a:off x="3726000" y="847800"/>
            <a:ext cx="2057400" cy="447480"/>
          </a:xfrm>
          <a:prstGeom prst="pie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2060"/>
                </a:solidFill>
                <a:uFillTx/>
                <a:latin typeface="Calibri"/>
              </a:rPr>
              <a:t>WHAT WE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Calibri"/>
              </a:rPr>
              <a:t>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CCD4-1080-43EB-B703-595806AF9A60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 type="ftr" idx="95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 type="sldNum" idx="96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1C84-63F2-4D98-9A29-0EE652DB75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0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501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TextBox 7"/>
          <p:cNvSpPr/>
          <p:nvPr/>
        </p:nvSpPr>
        <p:spPr>
          <a:xfrm>
            <a:off x="454320" y="1687680"/>
            <a:ext cx="140472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4A23-02A5-48F6-91F6-B2077E1C77AC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 type="ftr" idx="98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 type="sldNum" idx="99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05D4-B1C7-4A63-A2D0-D9ECB6D900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545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TextBox 7"/>
          <p:cNvSpPr/>
          <p:nvPr/>
        </p:nvSpPr>
        <p:spPr>
          <a:xfrm>
            <a:off x="454320" y="1687680"/>
            <a:ext cx="140472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D6F9-E01B-4758-BBD4-9B5ABAAA93C4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 type="ftr" idx="101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5"/>
          <p:cNvSpPr>
            <a:spLocks noGrp="1"/>
          </p:cNvSpPr>
          <p:nvPr>
            <p:ph type="sldNum" idx="102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EE09-5CFA-4396-A675-3E2EAB7BFA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8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589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TextBox 7"/>
          <p:cNvSpPr/>
          <p:nvPr/>
        </p:nvSpPr>
        <p:spPr>
          <a:xfrm>
            <a:off x="454320" y="1687680"/>
            <a:ext cx="140472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77EC-AA24-426C-93A5-17C9080E01FC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 type="ftr" idx="104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 type="sldNum" idx="105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A6DE-3E6A-4700-B6DD-AE2376BB9E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E97C-B648-46B8-9B4C-AA5C3FEAEA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2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633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8044-E8A6-4101-BA19-97300150254B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 type="ftr" idx="107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5"/>
          <p:cNvSpPr>
            <a:spLocks noGrp="1"/>
          </p:cNvSpPr>
          <p:nvPr>
            <p:ph type="sldNum" idx="108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889C-7A73-4B53-B5F5-F8DDA19F73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5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676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 type="dt" idx="10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D427-AEBF-4C2F-866E-C64509D707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9E99-487A-4015-8D65-56DD1BAEC7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16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7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8C50-11B0-44A7-94D9-7578D86AEB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CB31-8097-41BC-BCFC-CADBB8C97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2011-B636-4FAE-97F3-097408BEFC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DBD9-802C-4A33-87E7-27316C1EE7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jpeg"/><Relationship Id="rId15" Type="http://schemas.openxmlformats.org/officeDocument/2006/relationships/image" Target="../media/image26.png"/><Relationship Id="rId16" Type="http://schemas.openxmlformats.org/officeDocument/2006/relationships/image" Target="../media/image27.jpeg"/><Relationship Id="rId17" Type="http://schemas.openxmlformats.org/officeDocument/2006/relationships/image" Target="../media/image28.jpeg"/><Relationship Id="rId18" Type="http://schemas.openxmlformats.org/officeDocument/2006/relationships/image" Target="../media/image29.jpeg"/><Relationship Id="rId19" Type="http://schemas.openxmlformats.org/officeDocument/2006/relationships/image" Target="../media/image30.wmf"/><Relationship Id="rId20" Type="http://schemas.openxmlformats.org/officeDocument/2006/relationships/image" Target="../media/image31.jpeg"/><Relationship Id="rId21" Type="http://schemas.openxmlformats.org/officeDocument/2006/relationships/image" Target="../media/image32.jpeg"/><Relationship Id="rId22" Type="http://schemas.openxmlformats.org/officeDocument/2006/relationships/image" Target="../media/image33.jpeg"/><Relationship Id="rId23" Type="http://schemas.openxmlformats.org/officeDocument/2006/relationships/image" Target="../media/image34.png"/><Relationship Id="rId24" Type="http://schemas.openxmlformats.org/officeDocument/2006/relationships/image" Target="../media/image35.jpeg"/><Relationship Id="rId25" Type="http://schemas.openxmlformats.org/officeDocument/2006/relationships/image" Target="../media/image36.png"/><Relationship Id="rId26" Type="http://schemas.openxmlformats.org/officeDocument/2006/relationships/slideLayout" Target="../slideLayouts/slideLayout241.xml"/><Relationship Id="rId2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wmf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wmf"/><Relationship Id="rId9" Type="http://schemas.openxmlformats.org/officeDocument/2006/relationships/image" Target="../media/image45.png"/><Relationship Id="rId10" Type="http://schemas.openxmlformats.org/officeDocument/2006/relationships/image" Target="../media/image46.jpe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wmf"/><Relationship Id="rId1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5" name="Subtitle 2" descr=""/>
          <p:cNvPicPr/>
          <p:nvPr/>
        </p:nvPicPr>
        <p:blipFill>
          <a:blip r:embed="rId1"/>
          <a:stretch/>
        </p:blipFill>
        <p:spPr>
          <a:xfrm>
            <a:off x="1139760" y="3389400"/>
            <a:ext cx="6688080" cy="2103480"/>
          </a:xfrm>
          <a:prstGeom prst="rect">
            <a:avLst/>
          </a:prstGeom>
          <a:ln w="0">
            <a:noFill/>
          </a:ln>
        </p:spPr>
      </p:pic>
      <p:sp>
        <p:nvSpPr>
          <p:cNvPr id="1726" name="TextBox 4"/>
          <p:cNvSpPr/>
          <p:nvPr/>
        </p:nvSpPr>
        <p:spPr>
          <a:xfrm>
            <a:off x="304920" y="268200"/>
            <a:ext cx="8610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933c"/>
                </a:solidFill>
                <a:latin typeface="Calibri"/>
              </a:rPr>
              <a:t>Sustainable intensification of maize-legume-livestock integrated farming systems in Eastern and Southern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alibri"/>
              </a:rPr>
              <a:t>IITA-Dar es Salaam, Tanzania, 6-9 Feb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7" name="Picture 2" descr="D:\temp\wz5023\CGIAR-CSI Logo 2011\cgiar-csi_new_logo_2011_final.jpg"/>
          <p:cNvPicPr/>
          <p:nvPr/>
        </p:nvPicPr>
        <p:blipFill>
          <a:blip r:embed="rId2"/>
          <a:stretch/>
        </p:blipFill>
        <p:spPr>
          <a:xfrm>
            <a:off x="2057400" y="5975280"/>
            <a:ext cx="2286000" cy="513000"/>
          </a:xfrm>
          <a:prstGeom prst="rect">
            <a:avLst/>
          </a:prstGeom>
          <a:ln w="0">
            <a:noFill/>
          </a:ln>
        </p:spPr>
      </p:pic>
      <p:pic>
        <p:nvPicPr>
          <p:cNvPr id="1728" name="Rectangle 8" descr=""/>
          <p:cNvPicPr/>
          <p:nvPr/>
        </p:nvPicPr>
        <p:blipFill>
          <a:blip r:embed="rId3"/>
          <a:stretch/>
        </p:blipFill>
        <p:spPr>
          <a:xfrm>
            <a:off x="378000" y="1719360"/>
            <a:ext cx="8619840" cy="1176120"/>
          </a:xfrm>
          <a:prstGeom prst="rect">
            <a:avLst/>
          </a:prstGeom>
          <a:ln w="0">
            <a:noFill/>
          </a:ln>
        </p:spPr>
      </p:pic>
      <p:pic>
        <p:nvPicPr>
          <p:cNvPr id="1729" name="Picture 3" descr="sm-ifpri"/>
          <p:cNvPicPr/>
          <p:nvPr/>
        </p:nvPicPr>
        <p:blipFill>
          <a:blip r:embed="rId4"/>
          <a:stretch/>
        </p:blipFill>
        <p:spPr>
          <a:xfrm>
            <a:off x="7821720" y="5637240"/>
            <a:ext cx="1066680" cy="942840"/>
          </a:xfrm>
          <a:prstGeom prst="rect">
            <a:avLst/>
          </a:prstGeom>
          <a:ln w="0">
            <a:noFill/>
          </a:ln>
        </p:spPr>
      </p:pic>
      <p:pic>
        <p:nvPicPr>
          <p:cNvPr id="1730" name="Picture 3" descr=""/>
          <p:cNvPicPr/>
          <p:nvPr/>
        </p:nvPicPr>
        <p:blipFill>
          <a:blip r:embed="rId5"/>
          <a:stretch/>
        </p:blipFill>
        <p:spPr>
          <a:xfrm>
            <a:off x="5029200" y="5943600"/>
            <a:ext cx="2033640" cy="512640"/>
          </a:xfrm>
          <a:prstGeom prst="rect">
            <a:avLst/>
          </a:prstGeom>
          <a:ln w="0">
            <a:noFill/>
          </a:ln>
        </p:spPr>
      </p:pic>
      <p:pic>
        <p:nvPicPr>
          <p:cNvPr id="1731" name="Picture 2" descr=""/>
          <p:cNvPicPr/>
          <p:nvPr/>
        </p:nvPicPr>
        <p:blipFill>
          <a:blip r:embed="rId6"/>
          <a:stretch/>
        </p:blipFill>
        <p:spPr>
          <a:xfrm>
            <a:off x="380880" y="5742000"/>
            <a:ext cx="11430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otype Intensification Ind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9" name="Picture 2" descr=""/>
          <p:cNvPicPr/>
          <p:nvPr/>
        </p:nvPicPr>
        <p:blipFill>
          <a:blip r:embed="rId1"/>
          <a:stretch/>
        </p:blipFill>
        <p:spPr>
          <a:xfrm>
            <a:off x="498600" y="1219320"/>
            <a:ext cx="8378640" cy="5511600"/>
          </a:xfrm>
          <a:prstGeom prst="rect">
            <a:avLst/>
          </a:prstGeom>
          <a:ln w="0">
            <a:noFill/>
          </a:ln>
        </p:spPr>
      </p:pic>
      <p:sp>
        <p:nvSpPr>
          <p:cNvPr id="1860" name="TextBox 2"/>
          <p:cNvSpPr/>
          <p:nvPr/>
        </p:nvSpPr>
        <p:spPr>
          <a:xfrm>
            <a:off x="290880" y="6478560"/>
            <a:ext cx="453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: Based on Agricultural Sample Enumeration 2001-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arm-Scale Crop Enterprises (Tanzania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2" name="Picture 2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705800" cy="5639040"/>
          </a:xfrm>
          <a:prstGeom prst="rect">
            <a:avLst/>
          </a:prstGeom>
          <a:ln w="0">
            <a:noFill/>
          </a:ln>
        </p:spPr>
      </p:pic>
      <p:sp>
        <p:nvSpPr>
          <p:cNvPr id="1863" name="TextBox 3"/>
          <p:cNvSpPr/>
          <p:nvPr/>
        </p:nvSpPr>
        <p:spPr>
          <a:xfrm>
            <a:off x="354600" y="647856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: Based on Tanzania Agricultural Census 2007-08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based on minimum land area allocation or 0.02ha per crop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4" name="Group 26"/>
          <p:cNvGrpSpPr/>
          <p:nvPr/>
        </p:nvGrpSpPr>
        <p:grpSpPr>
          <a:xfrm>
            <a:off x="380880" y="2895480"/>
            <a:ext cx="3429000" cy="3447000"/>
            <a:chOff x="380880" y="2895480"/>
            <a:chExt cx="3429000" cy="3447000"/>
          </a:xfrm>
        </p:grpSpPr>
        <p:pic>
          <p:nvPicPr>
            <p:cNvPr id="1865" name="Picture 17" descr="Objective3_Walsh_Page_10_Image_0001.jpg"/>
            <p:cNvPicPr/>
            <p:nvPr/>
          </p:nvPicPr>
          <p:blipFill>
            <a:blip r:embed="rId1"/>
            <a:stretch/>
          </p:blipFill>
          <p:spPr>
            <a:xfrm>
              <a:off x="380880" y="2895480"/>
              <a:ext cx="1773360" cy="182880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866" name="TextBox 22"/>
            <p:cNvSpPr/>
            <p:nvPr/>
          </p:nvSpPr>
          <p:spPr>
            <a:xfrm>
              <a:off x="456840" y="5943600"/>
              <a:ext cx="3353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Elev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7" name="Group 33"/>
          <p:cNvGrpSpPr/>
          <p:nvPr/>
        </p:nvGrpSpPr>
        <p:grpSpPr>
          <a:xfrm>
            <a:off x="379440" y="3124080"/>
            <a:ext cx="3352680" cy="3218400"/>
            <a:chOff x="379440" y="3124080"/>
            <a:chExt cx="3352680" cy="3218400"/>
          </a:xfrm>
        </p:grpSpPr>
        <p:pic>
          <p:nvPicPr>
            <p:cNvPr id="1868" name="Picture 18" descr="Objective3_Walsh_Page_10_Image_0003.jpg"/>
            <p:cNvPicPr/>
            <p:nvPr/>
          </p:nvPicPr>
          <p:blipFill>
            <a:blip r:embed="rId2"/>
            <a:stretch/>
          </p:blipFill>
          <p:spPr>
            <a:xfrm>
              <a:off x="469080" y="3124080"/>
              <a:ext cx="1752480" cy="182016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869" name="TextBox 32"/>
            <p:cNvSpPr/>
            <p:nvPr/>
          </p:nvSpPr>
          <p:spPr>
            <a:xfrm>
              <a:off x="379440" y="5943600"/>
              <a:ext cx="3352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lope, aspect, drain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0" name="Group 35"/>
          <p:cNvGrpSpPr/>
          <p:nvPr/>
        </p:nvGrpSpPr>
        <p:grpSpPr>
          <a:xfrm>
            <a:off x="345960" y="3352680"/>
            <a:ext cx="3353040" cy="2980440"/>
            <a:chOff x="345960" y="3352680"/>
            <a:chExt cx="3353040" cy="2980440"/>
          </a:xfrm>
        </p:grpSpPr>
        <p:pic>
          <p:nvPicPr>
            <p:cNvPr id="1871" name="Picture 12" descr="point_thresholds_all.jpg"/>
            <p:cNvPicPr/>
            <p:nvPr/>
          </p:nvPicPr>
          <p:blipFill>
            <a:blip r:embed="rId3"/>
            <a:stretch/>
          </p:blipFill>
          <p:spPr>
            <a:xfrm>
              <a:off x="556560" y="3352680"/>
              <a:ext cx="1752840" cy="183024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872" name="TextBox 34"/>
            <p:cNvSpPr/>
            <p:nvPr/>
          </p:nvSpPr>
          <p:spPr>
            <a:xfrm>
              <a:off x="345960" y="5934240"/>
              <a:ext cx="3353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ettlements, ports, marke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3" name="Group 37"/>
          <p:cNvGrpSpPr/>
          <p:nvPr/>
        </p:nvGrpSpPr>
        <p:grpSpPr>
          <a:xfrm>
            <a:off x="250920" y="3505320"/>
            <a:ext cx="3352680" cy="2837160"/>
            <a:chOff x="250920" y="3505320"/>
            <a:chExt cx="3352680" cy="2837160"/>
          </a:xfrm>
        </p:grpSpPr>
        <p:pic>
          <p:nvPicPr>
            <p:cNvPr id="1874" name="Picture 6" descr=""/>
            <p:cNvPicPr/>
            <p:nvPr/>
          </p:nvPicPr>
          <p:blipFill>
            <a:blip r:embed="rId4"/>
            <a:stretch/>
          </p:blipFill>
          <p:spPr>
            <a:xfrm>
              <a:off x="631800" y="3505320"/>
              <a:ext cx="18478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5" name="TextBox 36"/>
            <p:cNvSpPr/>
            <p:nvPr/>
          </p:nvSpPr>
          <p:spPr>
            <a:xfrm>
              <a:off x="250920" y="5943600"/>
              <a:ext cx="3352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Road, rail, river, ICT networ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6" name="Group 48"/>
          <p:cNvGrpSpPr/>
          <p:nvPr/>
        </p:nvGrpSpPr>
        <p:grpSpPr>
          <a:xfrm>
            <a:off x="222120" y="3733920"/>
            <a:ext cx="3276720" cy="2608560"/>
            <a:chOff x="222120" y="3733920"/>
            <a:chExt cx="3276720" cy="2608560"/>
          </a:xfrm>
        </p:grpSpPr>
        <p:grpSp>
          <p:nvGrpSpPr>
            <p:cNvPr id="1877" name="Group 45"/>
            <p:cNvGrpSpPr/>
            <p:nvPr/>
          </p:nvGrpSpPr>
          <p:grpSpPr>
            <a:xfrm>
              <a:off x="771840" y="3733920"/>
              <a:ext cx="1828800" cy="1828800"/>
              <a:chOff x="771840" y="3733920"/>
              <a:chExt cx="1828800" cy="1828800"/>
            </a:xfrm>
          </p:grpSpPr>
          <p:pic>
            <p:nvPicPr>
              <p:cNvPr id="1878" name="Picture 8" descr=""/>
              <p:cNvPicPr/>
              <p:nvPr/>
            </p:nvPicPr>
            <p:blipFill>
              <a:blip r:embed="rId5"/>
              <a:stretch/>
            </p:blipFill>
            <p:spPr>
              <a:xfrm>
                <a:off x="771840" y="3733920"/>
                <a:ext cx="1828800" cy="1828800"/>
              </a:xfrm>
              <a:prstGeom prst="rect">
                <a:avLst/>
              </a:prstGeom>
              <a:ln w="22320">
                <a:solidFill>
                  <a:srgbClr val="000000"/>
                </a:solidFill>
                <a:miter/>
              </a:ln>
            </p:spPr>
          </p:pic>
          <p:sp>
            <p:nvSpPr>
              <p:cNvPr id="1879" name="Rectangle 35"/>
              <p:cNvSpPr/>
              <p:nvPr/>
            </p:nvSpPr>
            <p:spPr>
              <a:xfrm>
                <a:off x="923400" y="480060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0" name="TextBox 46"/>
            <p:cNvSpPr/>
            <p:nvPr/>
          </p:nvSpPr>
          <p:spPr>
            <a:xfrm>
              <a:off x="222120" y="5943600"/>
              <a:ext cx="32767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Market travel times &amp; cos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280800" y="220320"/>
            <a:ext cx="866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unger, Poverty &amp; Productivit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patial Covariates/Proxies &amp; Analytical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82" name="Group 50"/>
          <p:cNvGrpSpPr/>
          <p:nvPr/>
        </p:nvGrpSpPr>
        <p:grpSpPr>
          <a:xfrm>
            <a:off x="176040" y="3886200"/>
            <a:ext cx="3657600" cy="2456280"/>
            <a:chOff x="176040" y="3886200"/>
            <a:chExt cx="3657600" cy="2456280"/>
          </a:xfrm>
        </p:grpSpPr>
        <p:sp>
          <p:nvSpPr>
            <p:cNvPr id="1883" name="TextBox 49"/>
            <p:cNvSpPr/>
            <p:nvPr/>
          </p:nvSpPr>
          <p:spPr>
            <a:xfrm>
              <a:off x="176040" y="5943600"/>
              <a:ext cx="36576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Port travel times &amp; cos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4" name="Picture 42" descr="Ports&amp;Markestheds.jpg"/>
            <p:cNvPicPr/>
            <p:nvPr/>
          </p:nvPicPr>
          <p:blipFill>
            <a:blip r:embed="rId6"/>
            <a:stretch/>
          </p:blipFill>
          <p:spPr>
            <a:xfrm>
              <a:off x="901440" y="3886200"/>
              <a:ext cx="1841040" cy="184284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</p:grpSp>
      <p:sp>
        <p:nvSpPr>
          <p:cNvPr id="1885" name="TextBox 51"/>
          <p:cNvSpPr/>
          <p:nvPr/>
        </p:nvSpPr>
        <p:spPr>
          <a:xfrm>
            <a:off x="330120" y="1484280"/>
            <a:ext cx="210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rrain, Demograph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frastructure, Admin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TextBox 52"/>
          <p:cNvSpPr/>
          <p:nvPr/>
        </p:nvSpPr>
        <p:spPr>
          <a:xfrm>
            <a:off x="2324160" y="1600200"/>
            <a:ext cx="210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vironment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Box 53"/>
          <p:cNvSpPr/>
          <p:nvPr/>
        </p:nvSpPr>
        <p:spPr>
          <a:xfrm>
            <a:off x="4240080" y="1600200"/>
            <a:ext cx="210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s &amp;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Box 54"/>
          <p:cNvSpPr/>
          <p:nvPr/>
        </p:nvSpPr>
        <p:spPr>
          <a:xfrm>
            <a:off x="6019920" y="1676520"/>
            <a:ext cx="21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vention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9" name="Group 33"/>
          <p:cNvGrpSpPr/>
          <p:nvPr/>
        </p:nvGrpSpPr>
        <p:grpSpPr>
          <a:xfrm>
            <a:off x="0" y="2895480"/>
            <a:ext cx="4800600" cy="3447000"/>
            <a:chOff x="0" y="2895480"/>
            <a:chExt cx="4800600" cy="3447000"/>
          </a:xfrm>
        </p:grpSpPr>
        <p:pic>
          <p:nvPicPr>
            <p:cNvPr id="1890" name="Picture 30" descr="annex2_acz.jpg"/>
            <p:cNvPicPr/>
            <p:nvPr/>
          </p:nvPicPr>
          <p:blipFill>
            <a:blip r:embed="rId7"/>
            <a:stretch/>
          </p:blipFill>
          <p:spPr>
            <a:xfrm>
              <a:off x="2514600" y="2895480"/>
              <a:ext cx="1905120" cy="198108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891" name="TextBox 31"/>
            <p:cNvSpPr/>
            <p:nvPr/>
          </p:nvSpPr>
          <p:spPr>
            <a:xfrm>
              <a:off x="0" y="5943600"/>
              <a:ext cx="48006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Agroecological Zon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2" name="Group 44"/>
          <p:cNvGrpSpPr/>
          <p:nvPr/>
        </p:nvGrpSpPr>
        <p:grpSpPr>
          <a:xfrm>
            <a:off x="2311560" y="3048120"/>
            <a:ext cx="2971800" cy="3264120"/>
            <a:chOff x="2311560" y="3048120"/>
            <a:chExt cx="2971800" cy="3264120"/>
          </a:xfrm>
        </p:grpSpPr>
        <p:grpSp>
          <p:nvGrpSpPr>
            <p:cNvPr id="1893" name="Group 42"/>
            <p:cNvGrpSpPr/>
            <p:nvPr/>
          </p:nvGrpSpPr>
          <p:grpSpPr>
            <a:xfrm>
              <a:off x="2616120" y="3048120"/>
              <a:ext cx="1828800" cy="1869480"/>
              <a:chOff x="2616120" y="3048120"/>
              <a:chExt cx="1828800" cy="1869480"/>
            </a:xfrm>
          </p:grpSpPr>
          <p:pic>
            <p:nvPicPr>
              <p:cNvPr id="1894" name="Picture 40" descr="annex2_agext.jpg"/>
              <p:cNvPicPr/>
              <p:nvPr/>
            </p:nvPicPr>
            <p:blipFill>
              <a:blip r:embed="rId8"/>
              <a:stretch/>
            </p:blipFill>
            <p:spPr>
              <a:xfrm>
                <a:off x="2616120" y="3048120"/>
                <a:ext cx="1828800" cy="1869480"/>
              </a:xfrm>
              <a:prstGeom prst="rect">
                <a:avLst/>
              </a:prstGeom>
              <a:ln w="22320">
                <a:solidFill>
                  <a:srgbClr val="385d8a"/>
                </a:solidFill>
                <a:miter/>
              </a:ln>
            </p:spPr>
          </p:pic>
          <p:pic>
            <p:nvPicPr>
              <p:cNvPr id="1895" name="Picture 41" descr="annex2_agext.jpg"/>
              <p:cNvPicPr/>
              <p:nvPr/>
            </p:nvPicPr>
            <p:blipFill>
              <a:blip r:embed="rId9"/>
              <a:stretch/>
            </p:blipFill>
            <p:spPr>
              <a:xfrm>
                <a:off x="2624760" y="4101480"/>
                <a:ext cx="685800" cy="710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96" name="TextBox 43"/>
            <p:cNvSpPr/>
            <p:nvPr/>
          </p:nvSpPr>
          <p:spPr>
            <a:xfrm>
              <a:off x="2311560" y="5943960"/>
              <a:ext cx="2971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ropland extent &amp; intens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7" name="Group 60"/>
          <p:cNvGrpSpPr/>
          <p:nvPr/>
        </p:nvGrpSpPr>
        <p:grpSpPr>
          <a:xfrm>
            <a:off x="2072160" y="3200400"/>
            <a:ext cx="3658320" cy="3111840"/>
            <a:chOff x="2072160" y="3200400"/>
            <a:chExt cx="3658320" cy="3111840"/>
          </a:xfrm>
        </p:grpSpPr>
        <p:pic>
          <p:nvPicPr>
            <p:cNvPr id="1898" name="Picture 13" descr="cpartellus-africa-gis-high res-trimmed"/>
            <p:cNvPicPr/>
            <p:nvPr/>
          </p:nvPicPr>
          <p:blipFill>
            <a:blip r:embed="rId10"/>
            <a:stretch/>
          </p:blipFill>
          <p:spPr>
            <a:xfrm>
              <a:off x="2716920" y="3200400"/>
              <a:ext cx="1910160" cy="199512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899" name="TextBox 59"/>
            <p:cNvSpPr/>
            <p:nvPr/>
          </p:nvSpPr>
          <p:spPr>
            <a:xfrm>
              <a:off x="2072160" y="5943960"/>
              <a:ext cx="3658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Pests &amp; Diseases (Maize Stem Bore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0" name="Group 63"/>
          <p:cNvGrpSpPr/>
          <p:nvPr/>
        </p:nvGrpSpPr>
        <p:grpSpPr>
          <a:xfrm>
            <a:off x="2057400" y="3340080"/>
            <a:ext cx="3657600" cy="2972160"/>
            <a:chOff x="2057400" y="3340080"/>
            <a:chExt cx="3657600" cy="2972160"/>
          </a:xfrm>
        </p:grpSpPr>
        <p:pic>
          <p:nvPicPr>
            <p:cNvPr id="1901" name="Picture 7" descr=""/>
            <p:cNvPicPr/>
            <p:nvPr/>
          </p:nvPicPr>
          <p:blipFill>
            <a:blip r:embed="rId11"/>
            <a:stretch/>
          </p:blipFill>
          <p:spPr>
            <a:xfrm>
              <a:off x="2806560" y="3340080"/>
              <a:ext cx="196092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2" name="TextBox 62"/>
            <p:cNvSpPr/>
            <p:nvPr/>
          </p:nvSpPr>
          <p:spPr>
            <a:xfrm>
              <a:off x="2057400" y="5943960"/>
              <a:ext cx="3657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Drought Incidence &amp; Sever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3" name="Group 66"/>
          <p:cNvGrpSpPr/>
          <p:nvPr/>
        </p:nvGrpSpPr>
        <p:grpSpPr>
          <a:xfrm>
            <a:off x="2093760" y="3479760"/>
            <a:ext cx="3429000" cy="2832480"/>
            <a:chOff x="2093760" y="3479760"/>
            <a:chExt cx="3429000" cy="2832480"/>
          </a:xfrm>
        </p:grpSpPr>
        <p:pic>
          <p:nvPicPr>
            <p:cNvPr id="1904" name="Picture 15" descr=""/>
            <p:cNvPicPr/>
            <p:nvPr/>
          </p:nvPicPr>
          <p:blipFill>
            <a:blip r:embed="rId12"/>
            <a:stretch/>
          </p:blipFill>
          <p:spPr>
            <a:xfrm>
              <a:off x="2932920" y="3479760"/>
              <a:ext cx="1905120" cy="205848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905" name="TextBox 65"/>
            <p:cNvSpPr/>
            <p:nvPr/>
          </p:nvSpPr>
          <p:spPr>
            <a:xfrm>
              <a:off x="2093760" y="5943960"/>
              <a:ext cx="3429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Runo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6" name="Group 84"/>
          <p:cNvGrpSpPr/>
          <p:nvPr/>
        </p:nvGrpSpPr>
        <p:grpSpPr>
          <a:xfrm>
            <a:off x="-304920" y="4013280"/>
            <a:ext cx="3357360" cy="2387520"/>
            <a:chOff x="-304920" y="4013280"/>
            <a:chExt cx="3357360" cy="2387520"/>
          </a:xfrm>
        </p:grpSpPr>
        <p:grpSp>
          <p:nvGrpSpPr>
            <p:cNvPr id="1907" name="Group 82"/>
            <p:cNvGrpSpPr/>
            <p:nvPr/>
          </p:nvGrpSpPr>
          <p:grpSpPr>
            <a:xfrm>
              <a:off x="918000" y="4013280"/>
              <a:ext cx="2134440" cy="2298600"/>
              <a:chOff x="918000" y="4013280"/>
              <a:chExt cx="2134440" cy="2298600"/>
            </a:xfrm>
          </p:grpSpPr>
          <p:pic>
            <p:nvPicPr>
              <p:cNvPr id="1908" name="Picture 2" descr=""/>
              <p:cNvPicPr/>
              <p:nvPr/>
            </p:nvPicPr>
            <p:blipFill>
              <a:blip r:embed="rId13"/>
              <a:stretch/>
            </p:blipFill>
            <p:spPr>
              <a:xfrm>
                <a:off x="1003320" y="4013280"/>
                <a:ext cx="1905480" cy="1811880"/>
              </a:xfrm>
              <a:prstGeom prst="rect">
                <a:avLst/>
              </a:prstGeom>
              <a:ln w="22320">
                <a:solidFill>
                  <a:srgbClr val="000000"/>
                </a:solidFill>
                <a:miter/>
              </a:ln>
            </p:spPr>
          </p:pic>
          <p:sp>
            <p:nvSpPr>
              <p:cNvPr id="1909" name="TextBox 81"/>
              <p:cNvSpPr/>
              <p:nvPr/>
            </p:nvSpPr>
            <p:spPr>
              <a:xfrm>
                <a:off x="918000" y="5943600"/>
                <a:ext cx="21344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Administrative Uni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0" name="Rectangle 83"/>
            <p:cNvSpPr/>
            <p:nvPr/>
          </p:nvSpPr>
          <p:spPr>
            <a:xfrm>
              <a:off x="-304920" y="5943600"/>
              <a:ext cx="121932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1" name="Group 73"/>
          <p:cNvGrpSpPr/>
          <p:nvPr/>
        </p:nvGrpSpPr>
        <p:grpSpPr>
          <a:xfrm>
            <a:off x="2422440" y="2882880"/>
            <a:ext cx="4191120" cy="3429360"/>
            <a:chOff x="2422440" y="2882880"/>
            <a:chExt cx="4191120" cy="3429360"/>
          </a:xfrm>
        </p:grpSpPr>
        <p:pic>
          <p:nvPicPr>
            <p:cNvPr id="1912" name="Picture 67" descr="SSA_en.jpg"/>
            <p:cNvPicPr/>
            <p:nvPr/>
          </p:nvPicPr>
          <p:blipFill>
            <a:blip r:embed="rId14"/>
            <a:stretch/>
          </p:blipFill>
          <p:spPr>
            <a:xfrm>
              <a:off x="4521600" y="2882880"/>
              <a:ext cx="1930680" cy="205740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913" name="TextBox 68"/>
            <p:cNvSpPr/>
            <p:nvPr/>
          </p:nvSpPr>
          <p:spPr>
            <a:xfrm>
              <a:off x="2422440" y="5943960"/>
              <a:ext cx="41911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Farming Syste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4" name="Group 74"/>
          <p:cNvGrpSpPr/>
          <p:nvPr/>
        </p:nvGrpSpPr>
        <p:grpSpPr>
          <a:xfrm>
            <a:off x="4164120" y="3009960"/>
            <a:ext cx="3352680" cy="3339360"/>
            <a:chOff x="4164120" y="3009960"/>
            <a:chExt cx="3352680" cy="3339360"/>
          </a:xfrm>
        </p:grpSpPr>
        <p:pic>
          <p:nvPicPr>
            <p:cNvPr id="1915" name="Picture 3" descr=""/>
            <p:cNvPicPr/>
            <p:nvPr/>
          </p:nvPicPr>
          <p:blipFill>
            <a:blip r:embed="rId15"/>
            <a:stretch/>
          </p:blipFill>
          <p:spPr>
            <a:xfrm>
              <a:off x="4659120" y="3009960"/>
              <a:ext cx="1905120" cy="2057400"/>
            </a:xfrm>
            <a:prstGeom prst="rect">
              <a:avLst/>
            </a:prstGeom>
            <a:ln w="22320">
              <a:solidFill>
                <a:srgbClr val="385d8a"/>
              </a:solidFill>
              <a:miter/>
            </a:ln>
          </p:spPr>
        </p:pic>
        <p:sp>
          <p:nvSpPr>
            <p:cNvPr id="1916" name="TextBox 71"/>
            <p:cNvSpPr/>
            <p:nvPr/>
          </p:nvSpPr>
          <p:spPr>
            <a:xfrm>
              <a:off x="4164120" y="5981040"/>
              <a:ext cx="3352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rop Suitability: Rainfed Whe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7" name="Group 78"/>
          <p:cNvGrpSpPr/>
          <p:nvPr/>
        </p:nvGrpSpPr>
        <p:grpSpPr>
          <a:xfrm>
            <a:off x="3963960" y="2921040"/>
            <a:ext cx="3367080" cy="3402720"/>
            <a:chOff x="3963960" y="2921040"/>
            <a:chExt cx="3367080" cy="3402720"/>
          </a:xfrm>
        </p:grpSpPr>
        <p:pic>
          <p:nvPicPr>
            <p:cNvPr id="1918" name="Picture 3" descr="cropmap_pulse3"/>
            <p:cNvPicPr/>
            <p:nvPr/>
          </p:nvPicPr>
          <p:blipFill>
            <a:blip r:embed="rId16"/>
            <a:stretch/>
          </p:blipFill>
          <p:spPr>
            <a:xfrm>
              <a:off x="3963960" y="2921040"/>
              <a:ext cx="2762640" cy="266616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919" name="TextBox 77"/>
            <p:cNvSpPr/>
            <p:nvPr/>
          </p:nvSpPr>
          <p:spPr>
            <a:xfrm>
              <a:off x="4053960" y="5955480"/>
              <a:ext cx="327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rop Distribution &amp; Yiel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0" name="Group 79"/>
          <p:cNvGrpSpPr/>
          <p:nvPr/>
        </p:nvGrpSpPr>
        <p:grpSpPr>
          <a:xfrm>
            <a:off x="3732480" y="3125880"/>
            <a:ext cx="3696480" cy="3186720"/>
            <a:chOff x="3732480" y="3125880"/>
            <a:chExt cx="3696480" cy="3186720"/>
          </a:xfrm>
        </p:grpSpPr>
        <p:pic>
          <p:nvPicPr>
            <p:cNvPr id="1921" name="Content Placeholder 4" descr="val_of_prod_pcap_v2.jpg"/>
            <p:cNvPicPr/>
            <p:nvPr/>
          </p:nvPicPr>
          <p:blipFill>
            <a:blip r:embed="rId17"/>
            <a:stretch/>
          </p:blipFill>
          <p:spPr>
            <a:xfrm>
              <a:off x="4668120" y="3125880"/>
              <a:ext cx="1905120" cy="2056680"/>
            </a:xfrm>
            <a:prstGeom prst="rect">
              <a:avLst/>
            </a:prstGeom>
            <a:ln w="22320">
              <a:solidFill>
                <a:srgbClr val="4f81bd"/>
              </a:solidFill>
              <a:miter/>
            </a:ln>
          </p:spPr>
        </p:pic>
        <p:pic>
          <p:nvPicPr>
            <p:cNvPr id="1922" name="Content Placeholder 4" descr="val_of_prod_pcap_v2.jpg"/>
            <p:cNvPicPr/>
            <p:nvPr/>
          </p:nvPicPr>
          <p:blipFill>
            <a:blip r:embed="rId18"/>
            <a:stretch/>
          </p:blipFill>
          <p:spPr>
            <a:xfrm>
              <a:off x="4757040" y="3214800"/>
              <a:ext cx="2057760" cy="2056680"/>
            </a:xfrm>
            <a:prstGeom prst="rect">
              <a:avLst/>
            </a:prstGeom>
            <a:ln w="22320">
              <a:solidFill>
                <a:srgbClr val="4f81bd"/>
              </a:solidFill>
              <a:miter/>
            </a:ln>
          </p:spPr>
        </p:pic>
        <p:sp>
          <p:nvSpPr>
            <p:cNvPr id="1923" name="TextBox 76"/>
            <p:cNvSpPr/>
            <p:nvPr/>
          </p:nvSpPr>
          <p:spPr>
            <a:xfrm>
              <a:off x="3732480" y="5944320"/>
              <a:ext cx="3696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Value of Production per Rural Per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4" name="Group 87"/>
          <p:cNvGrpSpPr/>
          <p:nvPr/>
        </p:nvGrpSpPr>
        <p:grpSpPr>
          <a:xfrm>
            <a:off x="1881360" y="2895480"/>
            <a:ext cx="7030800" cy="3416760"/>
            <a:chOff x="1881360" y="2895480"/>
            <a:chExt cx="7030800" cy="3416760"/>
          </a:xfrm>
        </p:grpSpPr>
        <p:pic>
          <p:nvPicPr>
            <p:cNvPr id="1925" name="Picture 2" descr=""/>
            <p:cNvPicPr/>
            <p:nvPr/>
          </p:nvPicPr>
          <p:blipFill>
            <a:blip r:embed="rId19"/>
            <a:stretch/>
          </p:blipFill>
          <p:spPr>
            <a:xfrm>
              <a:off x="5484600" y="2895480"/>
              <a:ext cx="3049920" cy="243900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926" name="TextBox 86"/>
            <p:cNvSpPr/>
            <p:nvPr/>
          </p:nvSpPr>
          <p:spPr>
            <a:xfrm>
              <a:off x="1881360" y="5943960"/>
              <a:ext cx="7030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Yield Responses to Inputs, Management, C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7" name="Group 93"/>
          <p:cNvGrpSpPr/>
          <p:nvPr/>
        </p:nvGrpSpPr>
        <p:grpSpPr>
          <a:xfrm>
            <a:off x="3276720" y="2895480"/>
            <a:ext cx="6368760" cy="3505320"/>
            <a:chOff x="3276720" y="2895480"/>
            <a:chExt cx="6368760" cy="3505320"/>
          </a:xfrm>
        </p:grpSpPr>
        <p:grpSp>
          <p:nvGrpSpPr>
            <p:cNvPr id="1928" name="Group 91"/>
            <p:cNvGrpSpPr/>
            <p:nvPr/>
          </p:nvGrpSpPr>
          <p:grpSpPr>
            <a:xfrm>
              <a:off x="4464360" y="2895480"/>
              <a:ext cx="5181120" cy="3416400"/>
              <a:chOff x="4464360" y="2895480"/>
              <a:chExt cx="5181120" cy="3416400"/>
            </a:xfrm>
          </p:grpSpPr>
          <p:pic>
            <p:nvPicPr>
              <p:cNvPr id="1929" name="Picture 88" descr="rev_diff1.jpg"/>
              <p:cNvPicPr/>
              <p:nvPr/>
            </p:nvPicPr>
            <p:blipFill>
              <a:blip r:embed="rId20"/>
              <a:stretch/>
            </p:blipFill>
            <p:spPr>
              <a:xfrm>
                <a:off x="6247800" y="2895480"/>
                <a:ext cx="1780920" cy="1752840"/>
              </a:xfrm>
              <a:prstGeom prst="rect">
                <a:avLst/>
              </a:prstGeom>
              <a:ln w="22320">
                <a:solidFill>
                  <a:srgbClr val="000000"/>
                </a:solidFill>
                <a:miter/>
              </a:ln>
            </p:spPr>
          </p:pic>
          <p:pic>
            <p:nvPicPr>
              <p:cNvPr id="1930" name="Picture 89" descr="rev_diff1.jpg"/>
              <p:cNvPicPr/>
              <p:nvPr/>
            </p:nvPicPr>
            <p:blipFill>
              <a:blip r:embed="rId21"/>
              <a:stretch/>
            </p:blipFill>
            <p:spPr>
              <a:xfrm>
                <a:off x="6324120" y="2971440"/>
                <a:ext cx="1935720" cy="1905120"/>
              </a:xfrm>
              <a:prstGeom prst="rect">
                <a:avLst/>
              </a:prstGeom>
              <a:ln w="22320">
                <a:solidFill>
                  <a:srgbClr val="000000"/>
                </a:solidFill>
                <a:miter/>
              </a:ln>
            </p:spPr>
          </p:pic>
          <p:sp>
            <p:nvSpPr>
              <p:cNvPr id="1931" name="TextBox 90"/>
              <p:cNvSpPr/>
              <p:nvPr/>
            </p:nvSpPr>
            <p:spPr>
              <a:xfrm>
                <a:off x="4464360" y="5943600"/>
                <a:ext cx="51811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Profitability of small scale irrig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2" name="Rectangle 92"/>
            <p:cNvSpPr/>
            <p:nvPr/>
          </p:nvSpPr>
          <p:spPr>
            <a:xfrm>
              <a:off x="3276720" y="5867640"/>
              <a:ext cx="2057400" cy="533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3" name="Group 97"/>
          <p:cNvGrpSpPr/>
          <p:nvPr/>
        </p:nvGrpSpPr>
        <p:grpSpPr>
          <a:xfrm>
            <a:off x="5186520" y="3086280"/>
            <a:ext cx="4343400" cy="3226320"/>
            <a:chOff x="5186520" y="3086280"/>
            <a:chExt cx="4343400" cy="3226320"/>
          </a:xfrm>
        </p:grpSpPr>
        <p:pic>
          <p:nvPicPr>
            <p:cNvPr id="1934" name="Picture 94" descr="con_nutmap_wood.jpg"/>
            <p:cNvPicPr/>
            <p:nvPr/>
          </p:nvPicPr>
          <p:blipFill>
            <a:blip r:embed="rId22"/>
            <a:stretch/>
          </p:blipFill>
          <p:spPr>
            <a:xfrm>
              <a:off x="6437880" y="3086280"/>
              <a:ext cx="1981080" cy="198108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935" name="TextBox 96"/>
            <p:cNvSpPr/>
            <p:nvPr/>
          </p:nvSpPr>
          <p:spPr>
            <a:xfrm>
              <a:off x="5186520" y="5944320"/>
              <a:ext cx="43434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Quantity of Nutrients Remov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6" name="Group 100"/>
          <p:cNvGrpSpPr/>
          <p:nvPr/>
        </p:nvGrpSpPr>
        <p:grpSpPr>
          <a:xfrm>
            <a:off x="5638680" y="3198960"/>
            <a:ext cx="3722760" cy="3116880"/>
            <a:chOff x="5638680" y="3198960"/>
            <a:chExt cx="3722760" cy="3116880"/>
          </a:xfrm>
        </p:grpSpPr>
        <p:pic>
          <p:nvPicPr>
            <p:cNvPr id="1937" name="Picture 4" descr="E:\stan\ssa\kept_cities\results3\maize pixel price.jpg"/>
            <p:cNvPicPr/>
            <p:nvPr/>
          </p:nvPicPr>
          <p:blipFill>
            <a:blip r:embed="rId23"/>
            <a:stretch/>
          </p:blipFill>
          <p:spPr>
            <a:xfrm>
              <a:off x="6546960" y="3198960"/>
              <a:ext cx="1956960" cy="240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8" name="TextBox 99"/>
            <p:cNvSpPr/>
            <p:nvPr/>
          </p:nvSpPr>
          <p:spPr>
            <a:xfrm>
              <a:off x="5638680" y="5947560"/>
              <a:ext cx="37227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Fertilizer Profitab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9" name="Group 103"/>
          <p:cNvGrpSpPr/>
          <p:nvPr/>
        </p:nvGrpSpPr>
        <p:grpSpPr>
          <a:xfrm>
            <a:off x="6004080" y="2695680"/>
            <a:ext cx="3202920" cy="3616920"/>
            <a:chOff x="6004080" y="2695680"/>
            <a:chExt cx="3202920" cy="3616920"/>
          </a:xfrm>
        </p:grpSpPr>
        <p:pic>
          <p:nvPicPr>
            <p:cNvPr id="1940" name="Picture 101" descr="uganda_6.jpg"/>
            <p:cNvPicPr/>
            <p:nvPr/>
          </p:nvPicPr>
          <p:blipFill>
            <a:blip r:embed="rId24"/>
            <a:stretch/>
          </p:blipFill>
          <p:spPr>
            <a:xfrm>
              <a:off x="6335640" y="2695680"/>
              <a:ext cx="237456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1" name="TextBox 102"/>
            <p:cNvSpPr/>
            <p:nvPr/>
          </p:nvSpPr>
          <p:spPr>
            <a:xfrm>
              <a:off x="6004080" y="5944320"/>
              <a:ext cx="3202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Distribution of Welfare Benef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2" name="Group 105"/>
          <p:cNvGrpSpPr/>
          <p:nvPr/>
        </p:nvGrpSpPr>
        <p:grpSpPr>
          <a:xfrm>
            <a:off x="5334120" y="1636560"/>
            <a:ext cx="4286160" cy="4675680"/>
            <a:chOff x="5334120" y="1636560"/>
            <a:chExt cx="4286160" cy="4675680"/>
          </a:xfrm>
        </p:grpSpPr>
        <p:grpSp>
          <p:nvGrpSpPr>
            <p:cNvPr id="1943" name="Group 57"/>
            <p:cNvGrpSpPr/>
            <p:nvPr/>
          </p:nvGrpSpPr>
          <p:grpSpPr>
            <a:xfrm>
              <a:off x="7363800" y="1636560"/>
              <a:ext cx="2256480" cy="3545280"/>
              <a:chOff x="7363800" y="1636560"/>
              <a:chExt cx="2256480" cy="3545280"/>
            </a:xfrm>
          </p:grpSpPr>
          <p:sp>
            <p:nvSpPr>
              <p:cNvPr id="1944" name="TextBox 55"/>
              <p:cNvSpPr/>
              <p:nvPr/>
            </p:nvSpPr>
            <p:spPr>
              <a:xfrm>
                <a:off x="7515000" y="1636560"/>
                <a:ext cx="21052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Linkage 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Macr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Model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45" name="Picture 2" descr=""/>
              <p:cNvPicPr/>
              <p:nvPr/>
            </p:nvPicPr>
            <p:blipFill>
              <a:blip r:embed="rId25"/>
              <a:stretch/>
            </p:blipFill>
            <p:spPr>
              <a:xfrm>
                <a:off x="7363800" y="3276720"/>
                <a:ext cx="1780200" cy="1905120"/>
              </a:xfrm>
              <a:prstGeom prst="rect">
                <a:avLst/>
              </a:prstGeom>
              <a:ln w="9360">
                <a:solidFill>
                  <a:srgbClr val="385d8a"/>
                </a:solidFill>
                <a:miter/>
              </a:ln>
            </p:spPr>
          </p:pic>
        </p:grpSp>
        <p:sp>
          <p:nvSpPr>
            <p:cNvPr id="1946" name="TextBox 104"/>
            <p:cNvSpPr/>
            <p:nvPr/>
          </p:nvSpPr>
          <p:spPr>
            <a:xfrm>
              <a:off x="5334120" y="5943960"/>
              <a:ext cx="3809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ggregate to FP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7" name="TextBox 84"/>
          <p:cNvSpPr/>
          <p:nvPr/>
        </p:nvSpPr>
        <p:spPr>
          <a:xfrm>
            <a:off x="240840" y="6550200"/>
            <a:ext cx="26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urce: HarvestChoice/IFPR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8" name="Picture 1" descr="wheat high input suitability aez 2009.jpg"/>
          <p:cNvPicPr/>
          <p:nvPr/>
        </p:nvPicPr>
        <p:blipFill>
          <a:blip r:embed="rId1"/>
          <a:stretch/>
        </p:blipFill>
        <p:spPr>
          <a:xfrm>
            <a:off x="1243080" y="146160"/>
            <a:ext cx="3146400" cy="3193920"/>
          </a:xfrm>
          <a:prstGeom prst="rect">
            <a:avLst/>
          </a:prstGeom>
          <a:ln w="9360">
            <a:solidFill>
              <a:srgbClr val="254061"/>
            </a:solidFill>
            <a:miter/>
          </a:ln>
        </p:spPr>
      </p:pic>
      <p:sp>
        <p:nvSpPr>
          <p:cNvPr id="1949" name="TextBox 8"/>
          <p:cNvSpPr/>
          <p:nvPr/>
        </p:nvSpPr>
        <p:spPr>
          <a:xfrm rot="16200000">
            <a:off x="-3244680" y="3244680"/>
            <a:ext cx="6858000" cy="368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RAINFED W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TextBox 9"/>
          <p:cNvSpPr/>
          <p:nvPr/>
        </p:nvSpPr>
        <p:spPr>
          <a:xfrm rot="16200000">
            <a:off x="-934920" y="1293480"/>
            <a:ext cx="2968920" cy="368280"/>
          </a:xfrm>
          <a:prstGeom prst="rect">
            <a:avLst/>
          </a:prstGeom>
          <a:solidFill>
            <a:srgbClr val="9a9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. Agro-climatic sui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1" name="Group 53"/>
          <p:cNvGrpSpPr/>
          <p:nvPr/>
        </p:nvGrpSpPr>
        <p:grpSpPr>
          <a:xfrm>
            <a:off x="5783400" y="1293840"/>
            <a:ext cx="3433680" cy="2340000"/>
            <a:chOff x="5783400" y="1293840"/>
            <a:chExt cx="3433680" cy="2340000"/>
          </a:xfrm>
        </p:grpSpPr>
        <p:pic>
          <p:nvPicPr>
            <p:cNvPr id="1952" name="Content Placeholder 14" descr="t28.tif"/>
            <p:cNvPicPr/>
            <p:nvPr/>
          </p:nvPicPr>
          <p:blipFill>
            <a:blip r:embed="rId2"/>
            <a:stretch/>
          </p:blipFill>
          <p:spPr>
            <a:xfrm>
              <a:off x="6828480" y="1293840"/>
              <a:ext cx="2388600" cy="23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3" name="Right Arrow 15"/>
            <p:cNvSpPr/>
            <p:nvPr/>
          </p:nvSpPr>
          <p:spPr>
            <a:xfrm rot="1899600">
              <a:off x="7097760" y="1969920"/>
              <a:ext cx="504720" cy="380880"/>
            </a:xfrm>
            <a:prstGeom prst="rightArrow">
              <a:avLst>
                <a:gd name="adj1" fmla="val 50000"/>
                <a:gd name="adj2" fmla="val 49993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4298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TextBox 17"/>
            <p:cNvSpPr/>
            <p:nvPr/>
          </p:nvSpPr>
          <p:spPr>
            <a:xfrm>
              <a:off x="5783400" y="2705040"/>
              <a:ext cx="979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Recommend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Fertilizer R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5" name="Group 55"/>
          <p:cNvGrpSpPr/>
          <p:nvPr/>
        </p:nvGrpSpPr>
        <p:grpSpPr>
          <a:xfrm>
            <a:off x="4537080" y="10800"/>
            <a:ext cx="4167360" cy="2949480"/>
            <a:chOff x="4537080" y="10800"/>
            <a:chExt cx="4167360" cy="2949480"/>
          </a:xfrm>
        </p:grpSpPr>
        <p:sp>
          <p:nvSpPr>
            <p:cNvPr id="1956" name="TextBox 16"/>
            <p:cNvSpPr/>
            <p:nvPr/>
          </p:nvSpPr>
          <p:spPr>
            <a:xfrm>
              <a:off x="5169960" y="1922400"/>
              <a:ext cx="644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N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Fertiliz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7" name="Group 54"/>
            <p:cNvGrpSpPr/>
            <p:nvPr/>
          </p:nvGrpSpPr>
          <p:grpSpPr>
            <a:xfrm>
              <a:off x="4537080" y="10800"/>
              <a:ext cx="4167360" cy="2949480"/>
              <a:chOff x="4537080" y="10800"/>
              <a:chExt cx="4167360" cy="2949480"/>
            </a:xfrm>
          </p:grpSpPr>
          <p:sp>
            <p:nvSpPr>
              <p:cNvPr id="1958" name="TextBox 10"/>
              <p:cNvSpPr/>
              <p:nvPr/>
            </p:nvSpPr>
            <p:spPr>
              <a:xfrm rot="16200000">
                <a:off x="3383640" y="1164240"/>
                <a:ext cx="2949480" cy="642600"/>
              </a:xfrm>
              <a:prstGeom prst="rect">
                <a:avLst/>
              </a:prstGeom>
              <a:solidFill>
                <a:srgbClr val="9a9d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31840"/>
                    <a:tab algn="l" pos="463680"/>
                    <a:tab algn="l" pos="695160"/>
                    <a:tab algn="l" pos="927000"/>
                    <a:tab algn="l" pos="1158840"/>
                    <a:tab algn="l" pos="1390680"/>
                    <a:tab algn="l" pos="1622520"/>
                    <a:tab algn="l" pos="1854360"/>
                    <a:tab algn="l" pos="2085840"/>
                    <a:tab algn="l" pos="2317680"/>
                    <a:tab algn="l" pos="2549520"/>
                    <a:tab algn="l" pos="2781360"/>
                    <a:tab algn="l" pos="3013200"/>
                    <a:tab algn="l" pos="3244680"/>
                    <a:tab algn="l" pos="3476520"/>
                    <a:tab algn="l" pos="3708360"/>
                    <a:tab algn="l" pos="3940200"/>
                    <a:tab algn="l" pos="4172040"/>
                    <a:tab algn="l" pos="4403880"/>
                    <a:tab algn="l" pos="463536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2.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Yield responses to fertilizer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9" name="Group 52"/>
              <p:cNvGrpSpPr/>
              <p:nvPr/>
            </p:nvGrpSpPr>
            <p:grpSpPr>
              <a:xfrm>
                <a:off x="4907160" y="73800"/>
                <a:ext cx="3797280" cy="2226600"/>
                <a:chOff x="4907160" y="73800"/>
                <a:chExt cx="3797280" cy="2226600"/>
              </a:xfrm>
            </p:grpSpPr>
            <p:pic>
              <p:nvPicPr>
                <p:cNvPr id="1960" name="Content Placeholder 15" descr="t29.tif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907160" y="73800"/>
                  <a:ext cx="2274120" cy="2226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1" name="Picture 2" descr=""/>
                <p:cNvPicPr/>
                <p:nvPr/>
              </p:nvPicPr>
              <p:blipFill>
                <a:blip r:embed="rId4"/>
                <a:srcRect l="0" t="0" r="0" b="37609"/>
                <a:stretch/>
              </p:blipFill>
              <p:spPr>
                <a:xfrm>
                  <a:off x="7576560" y="393480"/>
                  <a:ext cx="654840" cy="1015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62" name="TextBox 18"/>
                <p:cNvSpPr/>
                <p:nvPr/>
              </p:nvSpPr>
              <p:spPr>
                <a:xfrm>
                  <a:off x="7515000" y="166320"/>
                  <a:ext cx="1189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alibri"/>
                    </a:rPr>
                    <a:t>Mean Yield (kg/ha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3" name="TextBox 19"/>
                <p:cNvSpPr/>
                <p:nvPr/>
              </p:nvSpPr>
              <p:spPr>
                <a:xfrm>
                  <a:off x="7674120" y="776160"/>
                  <a:ext cx="4122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Calibri"/>
                    </a:rPr>
                    <a:t>4000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64" name="Group 56"/>
          <p:cNvGrpSpPr/>
          <p:nvPr/>
        </p:nvGrpSpPr>
        <p:grpSpPr>
          <a:xfrm>
            <a:off x="368280" y="3429000"/>
            <a:ext cx="4137120" cy="3182760"/>
            <a:chOff x="368280" y="3429000"/>
            <a:chExt cx="4137120" cy="3182760"/>
          </a:xfrm>
        </p:grpSpPr>
        <p:sp>
          <p:nvSpPr>
            <p:cNvPr id="1965" name="TextBox 11"/>
            <p:cNvSpPr/>
            <p:nvPr/>
          </p:nvSpPr>
          <p:spPr>
            <a:xfrm rot="16200000">
              <a:off x="-1003680" y="4812480"/>
              <a:ext cx="3112920" cy="368280"/>
            </a:xfrm>
            <a:prstGeom prst="rect">
              <a:avLst/>
            </a:prstGeom>
            <a:solidFill>
              <a:srgbClr val="9a9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31840"/>
                  <a:tab algn="l" pos="463680"/>
                  <a:tab algn="l" pos="695160"/>
                  <a:tab algn="l" pos="927000"/>
                  <a:tab algn="l" pos="1158840"/>
                  <a:tab algn="l" pos="1390680"/>
                  <a:tab algn="l" pos="1622520"/>
                  <a:tab algn="l" pos="1854360"/>
                  <a:tab algn="l" pos="2085840"/>
                  <a:tab algn="l" pos="2317680"/>
                  <a:tab algn="l" pos="2549520"/>
                  <a:tab algn="l" pos="2781360"/>
                  <a:tab algn="l" pos="3013200"/>
                  <a:tab algn="l" pos="3244680"/>
                  <a:tab algn="l" pos="3476520"/>
                  <a:tab algn="l" pos="3708360"/>
                  <a:tab algn="l" pos="3940200"/>
                  <a:tab algn="l" pos="4172040"/>
                  <a:tab algn="l" pos="4403880"/>
                  <a:tab algn="l" pos="46353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3.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Modeling of farm-gate pr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6" name="Content Placeholder 6" descr="wh12_2_from_port.png"/>
            <p:cNvPicPr/>
            <p:nvPr/>
          </p:nvPicPr>
          <p:blipFill>
            <a:blip r:embed="rId5"/>
            <a:stretch/>
          </p:blipFill>
          <p:spPr>
            <a:xfrm>
              <a:off x="1106280" y="3647160"/>
              <a:ext cx="1419840" cy="14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7" name="Content Placeholder 7" descr="wh12_2_from_capital.png"/>
            <p:cNvPicPr/>
            <p:nvPr/>
          </p:nvPicPr>
          <p:blipFill>
            <a:blip r:embed="rId6"/>
            <a:stretch/>
          </p:blipFill>
          <p:spPr>
            <a:xfrm>
              <a:off x="1106280" y="5281200"/>
              <a:ext cx="1416600" cy="13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8" name="TextBox 21"/>
            <p:cNvSpPr/>
            <p:nvPr/>
          </p:nvSpPr>
          <p:spPr>
            <a:xfrm>
              <a:off x="752400" y="3429000"/>
              <a:ext cx="1130400" cy="55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Transport cost: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Port 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Farm-g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TextBox 22"/>
            <p:cNvSpPr/>
            <p:nvPr/>
          </p:nvSpPr>
          <p:spPr>
            <a:xfrm>
              <a:off x="752400" y="4986360"/>
              <a:ext cx="1130400" cy="55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Transport cost: 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Capital t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Farm-g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0" name="Picture 4" descr=""/>
            <p:cNvPicPr/>
            <p:nvPr/>
          </p:nvPicPr>
          <p:blipFill>
            <a:blip r:embed="rId7"/>
            <a:stretch/>
          </p:blipFill>
          <p:spPr>
            <a:xfrm>
              <a:off x="2836800" y="3773520"/>
              <a:ext cx="1502640" cy="11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1" name="TextBox 26"/>
            <p:cNvSpPr/>
            <p:nvPr/>
          </p:nvSpPr>
          <p:spPr>
            <a:xfrm>
              <a:off x="2460600" y="3429000"/>
              <a:ext cx="113040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Wheat farming enterprise 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2" name="Picture 5" descr=""/>
            <p:cNvPicPr/>
            <p:nvPr/>
          </p:nvPicPr>
          <p:blipFill>
            <a:blip r:embed="rId8"/>
            <a:stretch/>
          </p:blipFill>
          <p:spPr>
            <a:xfrm>
              <a:off x="2494440" y="5376960"/>
              <a:ext cx="2010960" cy="110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3" name="TextBox 30"/>
            <p:cNvSpPr/>
            <p:nvPr/>
          </p:nvSpPr>
          <p:spPr>
            <a:xfrm>
              <a:off x="2435400" y="5000400"/>
              <a:ext cx="16178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International wheat and fertilizer pr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4" name="Group 57"/>
          <p:cNvGrpSpPr/>
          <p:nvPr/>
        </p:nvGrpSpPr>
        <p:grpSpPr>
          <a:xfrm>
            <a:off x="4525920" y="3429000"/>
            <a:ext cx="4438800" cy="3154320"/>
            <a:chOff x="4525920" y="3429000"/>
            <a:chExt cx="4438800" cy="3154320"/>
          </a:xfrm>
        </p:grpSpPr>
        <p:sp>
          <p:nvSpPr>
            <p:cNvPr id="1975" name="TextBox 27"/>
            <p:cNvSpPr/>
            <p:nvPr/>
          </p:nvSpPr>
          <p:spPr>
            <a:xfrm rot="16200000">
              <a:off x="3132720" y="4821840"/>
              <a:ext cx="3154320" cy="368280"/>
            </a:xfrm>
            <a:prstGeom prst="rect">
              <a:avLst/>
            </a:prstGeom>
            <a:solidFill>
              <a:srgbClr val="9a9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31840"/>
                  <a:tab algn="l" pos="463680"/>
                  <a:tab algn="l" pos="695160"/>
                  <a:tab algn="l" pos="927000"/>
                  <a:tab algn="l" pos="1158840"/>
                  <a:tab algn="l" pos="1390680"/>
                  <a:tab algn="l" pos="1622520"/>
                  <a:tab algn="l" pos="1854360"/>
                  <a:tab algn="l" pos="2085840"/>
                  <a:tab algn="l" pos="2317680"/>
                  <a:tab algn="l" pos="2549520"/>
                  <a:tab algn="l" pos="2781360"/>
                  <a:tab algn="l" pos="3013200"/>
                  <a:tab algn="l" pos="3244680"/>
                  <a:tab algn="l" pos="3476520"/>
                  <a:tab algn="l" pos="3708360"/>
                  <a:tab algn="l" pos="3940200"/>
                  <a:tab algn="l" pos="4172040"/>
                  <a:tab algn="l" pos="4403880"/>
                  <a:tab algn="l" pos="46353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.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rofitability analy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6" name="Group 50"/>
            <p:cNvGrpSpPr/>
            <p:nvPr/>
          </p:nvGrpSpPr>
          <p:grpSpPr>
            <a:xfrm>
              <a:off x="4962600" y="3444120"/>
              <a:ext cx="4002120" cy="3041640"/>
              <a:chOff x="4962600" y="3444120"/>
              <a:chExt cx="4002120" cy="3041640"/>
            </a:xfrm>
          </p:grpSpPr>
          <p:pic>
            <p:nvPicPr>
              <p:cNvPr id="1977" name="Picture 2" descr=""/>
              <p:cNvPicPr/>
              <p:nvPr/>
            </p:nvPicPr>
            <p:blipFill>
              <a:blip r:embed="rId9"/>
              <a:stretch/>
            </p:blipFill>
            <p:spPr>
              <a:xfrm>
                <a:off x="4962600" y="3444120"/>
                <a:ext cx="4002120" cy="2846520"/>
              </a:xfrm>
              <a:prstGeom prst="rect">
                <a:avLst/>
              </a:prstGeom>
              <a:ln w="9360">
                <a:solidFill>
                  <a:srgbClr val="254061"/>
                </a:solidFill>
                <a:miter/>
              </a:ln>
            </p:spPr>
          </p:pic>
          <p:sp>
            <p:nvSpPr>
              <p:cNvPr id="1978" name="TextBox 35"/>
              <p:cNvSpPr/>
              <p:nvPr/>
            </p:nvSpPr>
            <p:spPr>
              <a:xfrm>
                <a:off x="7220160" y="5782680"/>
                <a:ext cx="831600" cy="703080"/>
              </a:xfrm>
              <a:prstGeom prst="rect">
                <a:avLst/>
              </a:prstGeom>
              <a:solidFill>
                <a:srgbClr val="c6d9f1"/>
              </a:solidFill>
              <a:ln w="93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alibri"/>
                  </a:rPr>
                  <a:t>Profitabilit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alibri"/>
                  </a:rPr>
                  <a:t>Sensitivit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alibri"/>
                  </a:rPr>
                  <a:t>Analys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alibri"/>
                  </a:rPr>
                  <a:t>Tool (Excel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979" name="Picture 1" descr="wheat high input suitability aez 2009.jpg"/>
          <p:cNvPicPr/>
          <p:nvPr/>
        </p:nvPicPr>
        <p:blipFill>
          <a:blip r:embed="rId10"/>
          <a:stretch/>
        </p:blipFill>
        <p:spPr>
          <a:xfrm>
            <a:off x="731880" y="1511280"/>
            <a:ext cx="110016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980" name="Group 49"/>
          <p:cNvGrpSpPr/>
          <p:nvPr/>
        </p:nvGrpSpPr>
        <p:grpSpPr>
          <a:xfrm>
            <a:off x="5411880" y="663480"/>
            <a:ext cx="3109680" cy="2333880"/>
            <a:chOff x="5411880" y="663480"/>
            <a:chExt cx="3109680" cy="2333880"/>
          </a:xfrm>
        </p:grpSpPr>
        <p:sp>
          <p:nvSpPr>
            <p:cNvPr id="1981" name="Rectangle 40"/>
            <p:cNvSpPr/>
            <p:nvPr/>
          </p:nvSpPr>
          <p:spPr>
            <a:xfrm>
              <a:off x="5425920" y="663480"/>
              <a:ext cx="3095640" cy="233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2" name="Group 48"/>
            <p:cNvGrpSpPr/>
            <p:nvPr/>
          </p:nvGrpSpPr>
          <p:grpSpPr>
            <a:xfrm>
              <a:off x="5411880" y="715680"/>
              <a:ext cx="3106080" cy="2235600"/>
              <a:chOff x="5411880" y="715680"/>
              <a:chExt cx="3106080" cy="2235600"/>
            </a:xfrm>
          </p:grpSpPr>
          <p:pic>
            <p:nvPicPr>
              <p:cNvPr id="1983" name="Picture 39" descr="cumulative_eth_ken.png"/>
              <p:cNvPicPr/>
              <p:nvPr/>
            </p:nvPicPr>
            <p:blipFill>
              <a:blip r:embed="rId11"/>
              <a:stretch/>
            </p:blipFill>
            <p:spPr>
              <a:xfrm>
                <a:off x="5692320" y="898920"/>
                <a:ext cx="2825640" cy="184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4" name="TextBox 41"/>
              <p:cNvSpPr/>
              <p:nvPr/>
            </p:nvSpPr>
            <p:spPr>
              <a:xfrm>
                <a:off x="5972760" y="715680"/>
                <a:ext cx="2325600" cy="22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</a:rPr>
                  <a:t>Variety: Digelu                                   Variety:  Veer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85" name="TextBox 42" descr=""/>
              <p:cNvPicPr/>
              <p:nvPr/>
            </p:nvPicPr>
            <p:blipFill>
              <a:blip r:embed="rId12"/>
              <a:stretch/>
            </p:blipFill>
            <p:spPr>
              <a:xfrm>
                <a:off x="5411880" y="1060200"/>
                <a:ext cx="334800" cy="149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6" name="TextBox 43"/>
              <p:cNvSpPr/>
              <p:nvPr/>
            </p:nvSpPr>
            <p:spPr>
              <a:xfrm>
                <a:off x="6210720" y="2735640"/>
                <a:ext cx="1855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</a:rPr>
                  <a:t>Yield                                                       Yiel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TextBox 44"/>
              <p:cNvSpPr/>
              <p:nvPr/>
            </p:nvSpPr>
            <p:spPr>
              <a:xfrm>
                <a:off x="5977440" y="1010880"/>
                <a:ext cx="4579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No fert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TextBox 45"/>
              <p:cNvSpPr/>
              <p:nvPr/>
            </p:nvSpPr>
            <p:spPr>
              <a:xfrm>
                <a:off x="6348240" y="1215720"/>
                <a:ext cx="52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100%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Rec. Fert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TextBox 46"/>
              <p:cNvSpPr/>
              <p:nvPr/>
            </p:nvSpPr>
            <p:spPr>
              <a:xfrm>
                <a:off x="7385040" y="2040120"/>
                <a:ext cx="4579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No fert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TextBox 47"/>
              <p:cNvSpPr/>
              <p:nvPr/>
            </p:nvSpPr>
            <p:spPr>
              <a:xfrm>
                <a:off x="7878960" y="2216160"/>
                <a:ext cx="52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100%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Rec. Fert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91" name="Group 59"/>
          <p:cNvGrpSpPr/>
          <p:nvPr/>
        </p:nvGrpSpPr>
        <p:grpSpPr>
          <a:xfrm>
            <a:off x="4941720" y="4191120"/>
            <a:ext cx="4165920" cy="2595960"/>
            <a:chOff x="4941720" y="4191120"/>
            <a:chExt cx="4165920" cy="2595960"/>
          </a:xfrm>
        </p:grpSpPr>
        <p:sp>
          <p:nvSpPr>
            <p:cNvPr id="1992" name="TextBox 36"/>
            <p:cNvSpPr/>
            <p:nvPr/>
          </p:nvSpPr>
          <p:spPr>
            <a:xfrm>
              <a:off x="5565600" y="6540840"/>
              <a:ext cx="304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Net Economic Return and  Potential Prod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3" name="Picture 6" descr=""/>
            <p:cNvPicPr/>
            <p:nvPr/>
          </p:nvPicPr>
          <p:blipFill>
            <a:blip r:embed="rId13"/>
            <a:stretch/>
          </p:blipFill>
          <p:spPr>
            <a:xfrm>
              <a:off x="4941720" y="4191120"/>
              <a:ext cx="4165920" cy="2355840"/>
            </a:xfrm>
            <a:prstGeom prst="rect">
              <a:avLst/>
            </a:prstGeom>
            <a:ln w="9360">
              <a:solidFill>
                <a:srgbClr val="254061"/>
              </a:solidFill>
              <a:miter/>
            </a:ln>
          </p:spPr>
        </p:pic>
      </p:grpSp>
      <p:sp>
        <p:nvSpPr>
          <p:cNvPr id="1994" name="TextBox 48"/>
          <p:cNvSpPr/>
          <p:nvPr/>
        </p:nvSpPr>
        <p:spPr>
          <a:xfrm>
            <a:off x="365040" y="6599160"/>
            <a:ext cx="4783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Source: CIMMYT – HarvestChoice/IFPRI “Wheat Potential for Africa “ (2011 draf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ize-Legume Analytical To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6" name="Picture 2" descr=""/>
          <p:cNvPicPr/>
          <p:nvPr/>
        </p:nvPicPr>
        <p:blipFill>
          <a:blip r:embed="rId1"/>
          <a:stretch/>
        </p:blipFill>
        <p:spPr>
          <a:xfrm>
            <a:off x="0" y="1347840"/>
            <a:ext cx="9144000" cy="5129280"/>
          </a:xfrm>
          <a:prstGeom prst="rect">
            <a:avLst/>
          </a:prstGeom>
          <a:ln w="15840">
            <a:solidFill>
              <a:srgbClr val="31859c"/>
            </a:solidFill>
            <a:miter/>
          </a:ln>
        </p:spPr>
      </p:pic>
      <p:pic>
        <p:nvPicPr>
          <p:cNvPr id="1997" name="Picture 3" descr=""/>
          <p:cNvPicPr/>
          <p:nvPr/>
        </p:nvPicPr>
        <p:blipFill>
          <a:blip r:embed="rId2"/>
          <a:stretch/>
        </p:blipFill>
        <p:spPr>
          <a:xfrm>
            <a:off x="-22320" y="1314360"/>
            <a:ext cx="2779920" cy="3291120"/>
          </a:xfrm>
          <a:prstGeom prst="rect">
            <a:avLst/>
          </a:prstGeom>
          <a:ln w="0">
            <a:noFill/>
          </a:ln>
        </p:spPr>
      </p:pic>
      <p:sp>
        <p:nvSpPr>
          <p:cNvPr id="1998" name="TextBox 5"/>
          <p:cNvSpPr/>
          <p:nvPr/>
        </p:nvSpPr>
        <p:spPr>
          <a:xfrm>
            <a:off x="376920" y="6599160"/>
            <a:ext cx="401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Source: HarvestChoice/IFPRI  Prototype SIMLESA simulations (201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&amp;E Implementation to d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"/>
          <p:cNvSpPr txBox="1"/>
          <p:nvPr/>
        </p:nvSpPr>
        <p:spPr>
          <a:xfrm>
            <a:off x="456840" y="16765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arget area stratification and site se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stablishing core FtF M&amp;E oblig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cruiting an M&amp;E Coordin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uilding an M&amp;E implementation communit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especially with national and local partn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signing an open-access, web-based M&amp;E data and analysis platfor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lanning annual M&amp;E technical meet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Rectangle 2"/>
          <p:cNvSpPr/>
          <p:nvPr/>
        </p:nvSpPr>
        <p:spPr>
          <a:xfrm>
            <a:off x="685800" y="83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Straight Connector 26"/>
          <p:cNvSpPr/>
          <p:nvPr/>
        </p:nvSpPr>
        <p:spPr>
          <a:xfrm>
            <a:off x="444600" y="4968720"/>
            <a:ext cx="8020080" cy="1800"/>
          </a:xfrm>
          <a:prstGeom prst="line">
            <a:avLst/>
          </a:prstGeom>
          <a:ln w="57240">
            <a:solidFill>
              <a:srgbClr val="10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TextBox 35"/>
          <p:cNvSpPr/>
          <p:nvPr/>
        </p:nvSpPr>
        <p:spPr>
          <a:xfrm>
            <a:off x="3057480" y="5589720"/>
            <a:ext cx="10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3-9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Straight Connector 29"/>
          <p:cNvSpPr/>
          <p:nvPr/>
        </p:nvSpPr>
        <p:spPr>
          <a:xfrm flipH="1">
            <a:off x="3564000" y="4981680"/>
            <a:ext cx="1440" cy="304560"/>
          </a:xfrm>
          <a:prstGeom prst="line">
            <a:avLst/>
          </a:prstGeom>
          <a:ln w="57240">
            <a:solidFill>
              <a:srgbClr val="10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TextBox 40"/>
          <p:cNvSpPr/>
          <p:nvPr/>
        </p:nvSpPr>
        <p:spPr>
          <a:xfrm>
            <a:off x="5770440" y="5589720"/>
            <a:ext cx="102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-12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Straight Connector 31"/>
          <p:cNvSpPr/>
          <p:nvPr/>
        </p:nvSpPr>
        <p:spPr>
          <a:xfrm>
            <a:off x="6281640" y="4948200"/>
            <a:ext cx="0" cy="357120"/>
          </a:xfrm>
          <a:prstGeom prst="line">
            <a:avLst/>
          </a:prstGeom>
          <a:ln w="57240">
            <a:solidFill>
              <a:srgbClr val="10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TextBox 40"/>
          <p:cNvSpPr/>
          <p:nvPr/>
        </p:nvSpPr>
        <p:spPr>
          <a:xfrm>
            <a:off x="214200" y="436680"/>
            <a:ext cx="89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S PGothic"/>
              </a:rPr>
              <a:t>West Africa: Year 1 M&amp;E Time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TextBox 40"/>
          <p:cNvSpPr/>
          <p:nvPr/>
        </p:nvSpPr>
        <p:spPr>
          <a:xfrm>
            <a:off x="534960" y="49482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Zapf Dingbats"/>
                <a:ea typeface="MS PGothic"/>
              </a:rPr>
              <a:t>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TextBox 35"/>
          <p:cNvSpPr/>
          <p:nvPr/>
        </p:nvSpPr>
        <p:spPr>
          <a:xfrm>
            <a:off x="444600" y="5589720"/>
            <a:ext cx="10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1-3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TextBox 4"/>
          <p:cNvSpPr/>
          <p:nvPr/>
        </p:nvSpPr>
        <p:spPr>
          <a:xfrm>
            <a:off x="303120" y="1620720"/>
            <a:ext cx="229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Area Characterizatio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TextBox 1"/>
          <p:cNvSpPr/>
          <p:nvPr/>
        </p:nvSpPr>
        <p:spPr>
          <a:xfrm>
            <a:off x="2864520" y="1422360"/>
            <a:ext cx="13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2" name="Straight Arrow Connector 3"/>
          <p:cNvCxnSpPr/>
          <p:nvPr/>
        </p:nvCxnSpPr>
        <p:spPr>
          <a:xfrm>
            <a:off x="419040" y="2566800"/>
            <a:ext cx="87552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13" name="TextBox 4"/>
          <p:cNvSpPr/>
          <p:nvPr/>
        </p:nvSpPr>
        <p:spPr>
          <a:xfrm>
            <a:off x="712800" y="2697120"/>
            <a:ext cx="34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Activities-&gt; M&amp;E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TextBox 5"/>
          <p:cNvSpPr/>
          <p:nvPr/>
        </p:nvSpPr>
        <p:spPr>
          <a:xfrm>
            <a:off x="1944720" y="317016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ey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TextBox 6"/>
          <p:cNvSpPr/>
          <p:nvPr/>
        </p:nvSpPr>
        <p:spPr>
          <a:xfrm>
            <a:off x="4915800" y="371016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 Surv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TextBox 7"/>
          <p:cNvSpPr/>
          <p:nvPr/>
        </p:nvSpPr>
        <p:spPr>
          <a:xfrm>
            <a:off x="4327560" y="219708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7" name="Straight Arrow Connector 25"/>
          <p:cNvCxnSpPr/>
          <p:nvPr/>
        </p:nvCxnSpPr>
        <p:spPr>
          <a:xfrm>
            <a:off x="1293480" y="3087360"/>
            <a:ext cx="176436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18" name="Straight Arrow Connector 28"/>
          <p:cNvCxnSpPr/>
          <p:nvPr/>
        </p:nvCxnSpPr>
        <p:spPr>
          <a:xfrm>
            <a:off x="2000160" y="3565080"/>
            <a:ext cx="176616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19" name="Straight Arrow Connector 30"/>
          <p:cNvCxnSpPr/>
          <p:nvPr/>
        </p:nvCxnSpPr>
        <p:spPr>
          <a:xfrm>
            <a:off x="4549680" y="4071600"/>
            <a:ext cx="271872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20" name="Straight Arrow Connector 32"/>
          <p:cNvCxnSpPr/>
          <p:nvPr/>
        </p:nvCxnSpPr>
        <p:spPr>
          <a:xfrm>
            <a:off x="2527200" y="2082600"/>
            <a:ext cx="199944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21" name="Straight Arrow Connector 34"/>
          <p:cNvCxnSpPr/>
          <p:nvPr/>
        </p:nvCxnSpPr>
        <p:spPr>
          <a:xfrm>
            <a:off x="4197240" y="2569680"/>
            <a:ext cx="199944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22" name="TextBox 1"/>
          <p:cNvSpPr/>
          <p:nvPr/>
        </p:nvSpPr>
        <p:spPr>
          <a:xfrm>
            <a:off x="927000" y="4287960"/>
            <a:ext cx="595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Impact Evaluation: Scaling Out &amp; 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3" name="Straight Arrow Connector 23"/>
          <p:cNvCxnSpPr/>
          <p:nvPr/>
        </p:nvCxnSpPr>
        <p:spPr>
          <a:xfrm>
            <a:off x="1187280" y="4723920"/>
            <a:ext cx="487944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2024" name="Picture 2" descr=""/>
          <p:cNvPicPr/>
          <p:nvPr/>
        </p:nvPicPr>
        <p:blipFill>
          <a:blip r:embed="rId1"/>
          <a:stretch/>
        </p:blipFill>
        <p:spPr>
          <a:xfrm>
            <a:off x="4229280" y="2841480"/>
            <a:ext cx="448920" cy="657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025" name="TextBox 1"/>
          <p:cNvSpPr/>
          <p:nvPr/>
        </p:nvSpPr>
        <p:spPr>
          <a:xfrm>
            <a:off x="4696560" y="2884320"/>
            <a:ext cx="108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&amp;E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e/Station (&amp; R&amp;D) Inven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7" name=""/>
          <p:cNvSpPr txBox="1"/>
          <p:nvPr/>
        </p:nvSpPr>
        <p:spPr>
          <a:xfrm>
            <a:off x="228600" y="16765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ation Location     (if known, Lat:___ Long: ___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cation Name: ________________________________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trict: _____________   Region: __________________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te/Station Full Name: _____________________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itution: _______________________________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chnologies/Practices tested/demonstra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tact detai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Rectangle 3"/>
          <p:cNvSpPr/>
          <p:nvPr/>
        </p:nvSpPr>
        <p:spPr>
          <a:xfrm>
            <a:off x="714240" y="4497480"/>
            <a:ext cx="7315200" cy="99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ssues/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appropriate split of M&amp;E roles between the M &amp; the E? (e.g., strong interest in early assessments of outcomes and spillover potentia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likely cost of meeting donor’s minimum reporting need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to ensure CAADP alignment (e.g. components selected on basis of elicited demand or available supply?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are Site Implementation VS Program wide M&amp;E needs/role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, IITA-lead Tanzania “M&amp;E” plans VS IFPRI-lead SSA M&amp;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, How will “Tanzania efforts” efforts be coordinated? Who should program M&amp;E be in dialog with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ing shared roles in data and tool development, access and application across program partners and stakehol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obtaining appropriate cross-fertilization in site selection, field data collection, annual reporting/analysi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nterest in engaging actively in a program M&amp;E community (especially from national partners)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o are likely candidates for M&amp;E Coordinator posi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0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0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0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0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0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0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0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ADP-CGIAR Program Alignment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chnical Fra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3" name="Picture 2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53452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&amp;E Guiding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"/>
          <p:cNvSpPr txBox="1"/>
          <p:nvPr/>
        </p:nvSpPr>
        <p:spPr>
          <a:xfrm>
            <a:off x="304560" y="10663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tF Compliance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Conform to the FtF core indic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ulti-scale, Multi-site reporting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Meet broad stakeholder needs and support multi-scale/multi-site M&amp;E through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ction-site, sub-system and system repor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untry report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reakout of site reports to serve national stakeholder n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gional Site-repor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for each of the three regional SI program si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SA-report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ross-system reporting and SI-wide “roll-up” of indicators across: Sudano-Sahelian zone, Ethiopian Highlands, Eastern and Southern Afr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onitoring &amp; projection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Provide monitoring reports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hort-term projections (targets) of key M&amp;E indicators for intervention sites in project “Zone of Influence”, updated annual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caling indicators up and out (spatial &amp; temporal)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 a range of biophysical, bio-economic , market and welfare models for ex ante analysis of output, outcome, and impact indicator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eywords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extrapolation, aggregation, tradeoffs, spillover potential, sustainability, welfare and environmental go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pen-access data and analysis platform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Maintain a transparent, open-access M&amp;E data management and analysis platform to serve the needs of SI stakehold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7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ey Activities for M&amp;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"/>
          <p:cNvSpPr txBox="1"/>
          <p:nvPr/>
        </p:nvSpPr>
        <p:spPr>
          <a:xfrm>
            <a:off x="38052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ocktaking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entory (and mapping) of partner sites and SI component innovations. Characterization of sites &amp; innov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ratification and diagnosis of target systems/geographies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ighlight key differences in initial conditions, drivers of change, and SI-related constraints or opportun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dentification of potential sites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at are representative of the identified stratification and cost-effective for implement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ap proposed activities and outcomes into M&amp;E indica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esign &amp; conduct baseline and periodic surveys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ing secondary data sources where possible (e.g. NSO/MoA, DHS, LSMS, CRP survey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aintaining an Innovation Inventory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enable discovery and delivery of innovation options project-wid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stablish a Linked Model/Evaluation capacity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support M&amp;E reporting cycle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f outcome and impact indicators (e.g., up/out-scaling and projections with and w/o SI interventions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mpact/Attribution assessment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the standards required  (ex post studi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7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7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7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7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8" name="Group 105"/>
          <p:cNvGrpSpPr/>
          <p:nvPr/>
        </p:nvGrpSpPr>
        <p:grpSpPr>
          <a:xfrm>
            <a:off x="3857760" y="1054080"/>
            <a:ext cx="2322360" cy="5410080"/>
            <a:chOff x="3857760" y="1054080"/>
            <a:chExt cx="2322360" cy="5410080"/>
          </a:xfrm>
        </p:grpSpPr>
        <p:grpSp>
          <p:nvGrpSpPr>
            <p:cNvPr id="1739" name="Group 102"/>
            <p:cNvGrpSpPr/>
            <p:nvPr/>
          </p:nvGrpSpPr>
          <p:grpSpPr>
            <a:xfrm>
              <a:off x="4214880" y="1054080"/>
              <a:ext cx="1965240" cy="5410080"/>
              <a:chOff x="4214880" y="1054080"/>
              <a:chExt cx="1965240" cy="5410080"/>
            </a:xfrm>
          </p:grpSpPr>
          <p:sp>
            <p:nvSpPr>
              <p:cNvPr id="1740" name="Rectangle 60"/>
              <p:cNvSpPr/>
              <p:nvPr/>
            </p:nvSpPr>
            <p:spPr>
              <a:xfrm>
                <a:off x="4214880" y="1054080"/>
                <a:ext cx="1965240" cy="541008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alibri"/>
                  </a:rPr>
                  <a:t>OUTCOM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Rectangle 20"/>
              <p:cNvSpPr/>
              <p:nvPr/>
            </p:nvSpPr>
            <p:spPr>
              <a:xfrm>
                <a:off x="4265640" y="1411200"/>
                <a:ext cx="1836720" cy="74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00000"/>
                    </a:solidFill>
                    <a:latin typeface="Calibri"/>
                  </a:rPr>
                  <a:t>More efficient, productive, &amp; resilient production system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Right Arrow 104"/>
            <p:cNvSpPr/>
            <p:nvPr/>
          </p:nvSpPr>
          <p:spPr>
            <a:xfrm>
              <a:off x="3857760" y="3843360"/>
              <a:ext cx="369720" cy="344160"/>
            </a:xfrm>
            <a:prstGeom prst="rightArrow">
              <a:avLst>
                <a:gd name="adj1" fmla="val 50000"/>
                <a:gd name="adj2" fmla="val 50043"/>
              </a:avLst>
            </a:prstGeom>
            <a:noFill/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3" name="Rectangle 9"/>
          <p:cNvSpPr/>
          <p:nvPr/>
        </p:nvSpPr>
        <p:spPr>
          <a:xfrm>
            <a:off x="1693800" y="1066680"/>
            <a:ext cx="2151000" cy="5410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Rectangle 10"/>
          <p:cNvSpPr/>
          <p:nvPr/>
        </p:nvSpPr>
        <p:spPr>
          <a:xfrm>
            <a:off x="1746360" y="1400040"/>
            <a:ext cx="2074680" cy="48276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Available /Adap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Innovation Compon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Rectangle 11"/>
          <p:cNvSpPr/>
          <p:nvPr/>
        </p:nvSpPr>
        <p:spPr>
          <a:xfrm>
            <a:off x="1746360" y="4218120"/>
            <a:ext cx="2074680" cy="5270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Willing, capable, relevant partners/users enga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Rectangle 12"/>
          <p:cNvSpPr/>
          <p:nvPr/>
        </p:nvSpPr>
        <p:spPr>
          <a:xfrm>
            <a:off x="1746360" y="1952640"/>
            <a:ext cx="2074680" cy="7300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Significant SI gains from  systems-focused component 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Rectangle 14"/>
          <p:cNvSpPr/>
          <p:nvPr/>
        </p:nvSpPr>
        <p:spPr>
          <a:xfrm>
            <a:off x="1746360" y="4795920"/>
            <a:ext cx="2074680" cy="4651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Quick wins/lessons are feasible, focus long-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Rectangle 15"/>
          <p:cNvSpPr/>
          <p:nvPr/>
        </p:nvSpPr>
        <p:spPr>
          <a:xfrm>
            <a:off x="1746360" y="2712960"/>
            <a:ext cx="2074680" cy="6811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Innovative &amp; tractable  implementation models can be appli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9" name="Group 59"/>
          <p:cNvGrpSpPr/>
          <p:nvPr/>
        </p:nvGrpSpPr>
        <p:grpSpPr>
          <a:xfrm>
            <a:off x="152280" y="1066680"/>
            <a:ext cx="1524240" cy="5410440"/>
            <a:chOff x="152280" y="1066680"/>
            <a:chExt cx="1524240" cy="5410440"/>
          </a:xfrm>
        </p:grpSpPr>
        <p:sp>
          <p:nvSpPr>
            <p:cNvPr id="1750" name="Rectangle 13"/>
            <p:cNvSpPr/>
            <p:nvPr/>
          </p:nvSpPr>
          <p:spPr>
            <a:xfrm>
              <a:off x="152280" y="1066680"/>
              <a:ext cx="990720" cy="54104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d0d0d"/>
                  </a:solidFill>
                  <a:latin typeface="Calibri"/>
                </a:rPr>
                <a:t>CAA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Rectangle 3"/>
            <p:cNvSpPr/>
            <p:nvPr/>
          </p:nvSpPr>
          <p:spPr>
            <a:xfrm>
              <a:off x="279000" y="1828440"/>
              <a:ext cx="152280" cy="373392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Rectangle 4"/>
            <p:cNvSpPr/>
            <p:nvPr/>
          </p:nvSpPr>
          <p:spPr>
            <a:xfrm>
              <a:off x="523800" y="1828440"/>
              <a:ext cx="442800" cy="83808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Rectangle 5"/>
            <p:cNvSpPr/>
            <p:nvPr/>
          </p:nvSpPr>
          <p:spPr>
            <a:xfrm>
              <a:off x="523800" y="2793960"/>
              <a:ext cx="442800" cy="83808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Rectangle 6"/>
            <p:cNvSpPr/>
            <p:nvPr/>
          </p:nvSpPr>
          <p:spPr>
            <a:xfrm>
              <a:off x="523800" y="3759120"/>
              <a:ext cx="442800" cy="83808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Rectangle 7"/>
            <p:cNvSpPr/>
            <p:nvPr/>
          </p:nvSpPr>
          <p:spPr>
            <a:xfrm>
              <a:off x="523800" y="4714920"/>
              <a:ext cx="442800" cy="83808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Left-Right Arrow 16"/>
            <p:cNvSpPr/>
            <p:nvPr/>
          </p:nvSpPr>
          <p:spPr>
            <a:xfrm>
              <a:off x="1155960" y="3794040"/>
              <a:ext cx="520560" cy="328320"/>
            </a:xfrm>
            <a:prstGeom prst="leftRightArrow">
              <a:avLst>
                <a:gd name="adj1" fmla="val 50000"/>
                <a:gd name="adj2" fmla="val 50032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IGN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7" name="Rectangle 17"/>
          <p:cNvSpPr/>
          <p:nvPr/>
        </p:nvSpPr>
        <p:spPr>
          <a:xfrm>
            <a:off x="1746360" y="3441600"/>
            <a:ext cx="2074680" cy="72396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Delivery mechanisms  integral to project design and 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Rectangle 18"/>
          <p:cNvSpPr/>
          <p:nvPr/>
        </p:nvSpPr>
        <p:spPr>
          <a:xfrm>
            <a:off x="1733400" y="5318280"/>
            <a:ext cx="2075040" cy="65376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Scaling up/out and maximising spillovers are part of project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Rectangle 19"/>
          <p:cNvSpPr/>
          <p:nvPr/>
        </p:nvSpPr>
        <p:spPr>
          <a:xfrm>
            <a:off x="4265640" y="2211480"/>
            <a:ext cx="181764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More effective use of land, water, biod’vrsty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Rectangle 21"/>
          <p:cNvSpPr/>
          <p:nvPr/>
        </p:nvSpPr>
        <p:spPr>
          <a:xfrm>
            <a:off x="4265640" y="3084480"/>
            <a:ext cx="1835280" cy="725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Greater, more equitable returns  to hh labour and ass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22"/>
          <p:cNvSpPr/>
          <p:nvPr/>
        </p:nvSpPr>
        <p:spPr>
          <a:xfrm>
            <a:off x="4265640" y="3843360"/>
            <a:ext cx="1835280" cy="53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Improved household nutrition (esp W&amp;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Rectangle 24"/>
          <p:cNvSpPr/>
          <p:nvPr/>
        </p:nvSpPr>
        <p:spPr>
          <a:xfrm>
            <a:off x="4265640" y="4411800"/>
            <a:ext cx="1822320" cy="5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Better served and more efficient value cha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TextBox 25"/>
          <p:cNvSpPr/>
          <p:nvPr/>
        </p:nvSpPr>
        <p:spPr>
          <a:xfrm>
            <a:off x="201960" y="228600"/>
            <a:ext cx="87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Assumptions, Outcomes, Impacts, &amp; FtF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Rectangle 49"/>
          <p:cNvSpPr/>
          <p:nvPr/>
        </p:nvSpPr>
        <p:spPr>
          <a:xfrm>
            <a:off x="4287960" y="5667480"/>
            <a:ext cx="1819080" cy="749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Improved  research methods,  partnership and delivery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Rectangle 58"/>
          <p:cNvSpPr/>
          <p:nvPr/>
        </p:nvSpPr>
        <p:spPr>
          <a:xfrm>
            <a:off x="1731960" y="6019920"/>
            <a:ext cx="2075040" cy="41436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M&amp;</a:t>
            </a:r>
            <a:r>
              <a:rPr b="1" lang="en-US" sz="2400" spc="-1" strike="noStrike">
                <a:solidFill>
                  <a:srgbClr val="0d0d0d"/>
                </a:solidFill>
                <a:latin typeface="Calibri"/>
              </a:rPr>
              <a:t>E</a:t>
            </a: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6" name="Group 103"/>
          <p:cNvGrpSpPr/>
          <p:nvPr/>
        </p:nvGrpSpPr>
        <p:grpSpPr>
          <a:xfrm>
            <a:off x="6162480" y="1400040"/>
            <a:ext cx="2946600" cy="4435560"/>
            <a:chOff x="6162480" y="1400040"/>
            <a:chExt cx="2946600" cy="4435560"/>
          </a:xfrm>
        </p:grpSpPr>
        <p:cxnSp>
          <p:nvCxnSpPr>
            <p:cNvPr id="1767" name="Straight Arrow Connector 106"/>
            <p:cNvCxnSpPr>
              <a:stCxn id="1768" idx="3"/>
              <a:endCxn id="1769" idx="1"/>
            </p:cNvCxnSpPr>
            <p:nvPr/>
          </p:nvCxnSpPr>
          <p:spPr>
            <a:xfrm>
              <a:off x="6798960" y="2806560"/>
              <a:ext cx="276840" cy="159120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70" name="Straight Arrow Connector 84"/>
            <p:cNvCxnSpPr>
              <a:stCxn id="1768" idx="3"/>
              <a:endCxn id="1771" idx="1"/>
            </p:cNvCxnSpPr>
            <p:nvPr/>
          </p:nvCxnSpPr>
          <p:spPr>
            <a:xfrm flipH="1">
              <a:off x="6582600" y="2806200"/>
              <a:ext cx="216360" cy="228348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sp>
          <p:nvSpPr>
            <p:cNvPr id="1772" name="Oval 64"/>
            <p:cNvSpPr/>
            <p:nvPr/>
          </p:nvSpPr>
          <p:spPr>
            <a:xfrm>
              <a:off x="6238800" y="3052440"/>
              <a:ext cx="1371600" cy="56520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Wom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Empower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Oval 26"/>
            <p:cNvSpPr/>
            <p:nvPr/>
          </p:nvSpPr>
          <p:spPr>
            <a:xfrm>
              <a:off x="6942240" y="4336920"/>
              <a:ext cx="919080" cy="419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Pri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Oval 27"/>
            <p:cNvSpPr/>
            <p:nvPr/>
          </p:nvSpPr>
          <p:spPr>
            <a:xfrm>
              <a:off x="7807320" y="3035160"/>
              <a:ext cx="1031760" cy="419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Oval 28"/>
            <p:cNvSpPr/>
            <p:nvPr/>
          </p:nvSpPr>
          <p:spPr>
            <a:xfrm>
              <a:off x="7067520" y="3585960"/>
              <a:ext cx="1109520" cy="419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Inco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Oval 29"/>
            <p:cNvSpPr/>
            <p:nvPr/>
          </p:nvSpPr>
          <p:spPr>
            <a:xfrm>
              <a:off x="8016840" y="3894120"/>
              <a:ext cx="1092240" cy="419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Hunger/Nutr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76" name="Straight Arrow Connector 41"/>
            <p:cNvCxnSpPr>
              <a:stCxn id="1774" idx="0"/>
              <a:endCxn id="1773" idx="2"/>
            </p:cNvCxnSpPr>
            <p:nvPr/>
          </p:nvCxnSpPr>
          <p:spPr>
            <a:xfrm flipV="1">
              <a:off x="7623000" y="3244320"/>
              <a:ext cx="184680" cy="34200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777" name="Straight Arrow Connector 42"/>
            <p:cNvCxnSpPr>
              <a:stCxn id="1769" idx="6"/>
              <a:endCxn id="1775" idx="3"/>
            </p:cNvCxnSpPr>
            <p:nvPr/>
          </p:nvCxnSpPr>
          <p:spPr>
            <a:xfrm flipV="1">
              <a:off x="7860960" y="4252320"/>
              <a:ext cx="316440" cy="29412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778" name="Straight Arrow Connector 44"/>
            <p:cNvCxnSpPr>
              <a:endCxn id="1775" idx="0"/>
            </p:cNvCxnSpPr>
            <p:nvPr/>
          </p:nvCxnSpPr>
          <p:spPr>
            <a:xfrm>
              <a:off x="8516880" y="3429000"/>
              <a:ext cx="46440" cy="46584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779" name="Straight Arrow Connector 47"/>
            <p:cNvCxnSpPr>
              <a:endCxn id="1774" idx="4"/>
            </p:cNvCxnSpPr>
            <p:nvPr/>
          </p:nvCxnSpPr>
          <p:spPr>
            <a:xfrm flipV="1">
              <a:off x="7311960" y="4005000"/>
              <a:ext cx="311760" cy="40392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sp>
          <p:nvSpPr>
            <p:cNvPr id="1780" name="Oval 50"/>
            <p:cNvSpPr/>
            <p:nvPr/>
          </p:nvSpPr>
          <p:spPr>
            <a:xfrm>
              <a:off x="7427880" y="1400040"/>
              <a:ext cx="1611360" cy="7938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table/Re-generating environ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1" name="Straight Arrow Connector 51"/>
            <p:cNvCxnSpPr>
              <a:stCxn id="1780" idx="4"/>
              <a:endCxn id="1773" idx="0"/>
            </p:cNvCxnSpPr>
            <p:nvPr/>
          </p:nvCxnSpPr>
          <p:spPr>
            <a:xfrm>
              <a:off x="8232480" y="2193480"/>
              <a:ext cx="91080" cy="84204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782" name="Straight Arrow Connector 55"/>
            <p:cNvCxnSpPr>
              <a:endCxn id="1774" idx="0"/>
            </p:cNvCxnSpPr>
            <p:nvPr/>
          </p:nvCxnSpPr>
          <p:spPr>
            <a:xfrm>
              <a:off x="7542360" y="2666520"/>
              <a:ext cx="81360" cy="91980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783" name="Straight Arrow Connector 61"/>
            <p:cNvCxnSpPr>
              <a:endCxn id="1775" idx="2"/>
            </p:cNvCxnSpPr>
            <p:nvPr/>
          </p:nvCxnSpPr>
          <p:spPr>
            <a:xfrm>
              <a:off x="6183000" y="4098600"/>
              <a:ext cx="1834200" cy="540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84" name="Straight Arrow Connector 62"/>
            <p:cNvCxnSpPr>
              <a:endCxn id="1780" idx="2"/>
            </p:cNvCxnSpPr>
            <p:nvPr/>
          </p:nvCxnSpPr>
          <p:spPr>
            <a:xfrm flipV="1">
              <a:off x="6183000" y="1796040"/>
              <a:ext cx="1245240" cy="71172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85" name="Straight Arrow Connector 63"/>
            <p:cNvCxnSpPr>
              <a:endCxn id="1769" idx="2"/>
            </p:cNvCxnSpPr>
            <p:nvPr/>
          </p:nvCxnSpPr>
          <p:spPr>
            <a:xfrm flipV="1">
              <a:off x="6183000" y="4546080"/>
              <a:ext cx="759240" cy="12240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86" name="Straight Arrow Connector 68"/>
            <p:cNvCxnSpPr/>
            <p:nvPr/>
          </p:nvCxnSpPr>
          <p:spPr>
            <a:xfrm flipV="1">
              <a:off x="6179760" y="1641240"/>
              <a:ext cx="1362600" cy="15588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87" name="Straight Arrow Connector 70"/>
            <p:cNvCxnSpPr>
              <a:endCxn id="1774" idx="2"/>
            </p:cNvCxnSpPr>
            <p:nvPr/>
          </p:nvCxnSpPr>
          <p:spPr>
            <a:xfrm>
              <a:off x="6162480" y="3524040"/>
              <a:ext cx="905400" cy="27216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sp>
          <p:nvSpPr>
            <p:cNvPr id="1771" name="Oval 72"/>
            <p:cNvSpPr/>
            <p:nvPr/>
          </p:nvSpPr>
          <p:spPr>
            <a:xfrm>
              <a:off x="6343560" y="4962600"/>
              <a:ext cx="1638360" cy="873000"/>
            </a:xfrm>
            <a:prstGeom prst="ellipse">
              <a:avLst/>
            </a:prstGeom>
            <a:solidFill>
              <a:srgbClr val="fcd5b5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Increased  value-added, jobs &amp; tra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Oval 73"/>
            <p:cNvSpPr/>
            <p:nvPr/>
          </p:nvSpPr>
          <p:spPr>
            <a:xfrm>
              <a:off x="6594480" y="2128680"/>
              <a:ext cx="1395360" cy="7938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Increased food, feed, fod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8" name="Straight Arrow Connector 76"/>
            <p:cNvCxnSpPr>
              <a:endCxn id="1768" idx="1"/>
            </p:cNvCxnSpPr>
            <p:nvPr/>
          </p:nvCxnSpPr>
          <p:spPr>
            <a:xfrm>
              <a:off x="6183000" y="1796760"/>
              <a:ext cx="616680" cy="45000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89" name="Straight Arrow Connector 81"/>
            <p:cNvCxnSpPr>
              <a:endCxn id="1771" idx="1"/>
            </p:cNvCxnSpPr>
            <p:nvPr/>
          </p:nvCxnSpPr>
          <p:spPr>
            <a:xfrm>
              <a:off x="6180120" y="4716360"/>
              <a:ext cx="403920" cy="37368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90" name="Straight Arrow Connector 88"/>
            <p:cNvCxnSpPr>
              <a:endCxn id="1769" idx="4"/>
            </p:cNvCxnSpPr>
            <p:nvPr/>
          </p:nvCxnSpPr>
          <p:spPr>
            <a:xfrm flipV="1">
              <a:off x="7171920" y="4755600"/>
              <a:ext cx="229320" cy="24012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1791" name="Oval 53"/>
            <p:cNvSpPr/>
            <p:nvPr/>
          </p:nvSpPr>
          <p:spPr>
            <a:xfrm>
              <a:off x="7953480" y="4594320"/>
              <a:ext cx="1009440" cy="419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Sector Grow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92" name="Straight Arrow Connector 54"/>
            <p:cNvCxnSpPr>
              <a:stCxn id="1774" idx="4"/>
              <a:endCxn id="1791" idx="1"/>
            </p:cNvCxnSpPr>
            <p:nvPr/>
          </p:nvCxnSpPr>
          <p:spPr>
            <a:xfrm>
              <a:off x="7623000" y="4005360"/>
              <a:ext cx="478440" cy="65160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93" name="Straight Arrow Connector 57"/>
            <p:cNvCxnSpPr>
              <a:stCxn id="1771" idx="7"/>
              <a:endCxn id="1791" idx="3"/>
            </p:cNvCxnSpPr>
            <p:nvPr/>
          </p:nvCxnSpPr>
          <p:spPr>
            <a:xfrm flipV="1">
              <a:off x="7742160" y="4952160"/>
              <a:ext cx="358920" cy="13716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1794" name="Group 36"/>
          <p:cNvGrpSpPr/>
          <p:nvPr/>
        </p:nvGrpSpPr>
        <p:grpSpPr>
          <a:xfrm>
            <a:off x="6246720" y="2768760"/>
            <a:ext cx="2835360" cy="2408040"/>
            <a:chOff x="6246720" y="2768760"/>
            <a:chExt cx="2835360" cy="2408040"/>
          </a:xfrm>
        </p:grpSpPr>
        <p:sp>
          <p:nvSpPr>
            <p:cNvPr id="1795" name="Flowchart: Connector 67"/>
            <p:cNvSpPr/>
            <p:nvPr/>
          </p:nvSpPr>
          <p:spPr>
            <a:xfrm>
              <a:off x="8713800" y="360216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lowchart: Connector 69"/>
            <p:cNvSpPr/>
            <p:nvPr/>
          </p:nvSpPr>
          <p:spPr>
            <a:xfrm>
              <a:off x="8470800" y="276876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lowchart: Connector 71"/>
            <p:cNvSpPr/>
            <p:nvPr/>
          </p:nvSpPr>
          <p:spPr>
            <a:xfrm>
              <a:off x="8670960" y="479592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lowchart: Connector 74"/>
            <p:cNvSpPr/>
            <p:nvPr/>
          </p:nvSpPr>
          <p:spPr>
            <a:xfrm>
              <a:off x="7507080" y="333540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lowchart: Connector 75"/>
            <p:cNvSpPr/>
            <p:nvPr/>
          </p:nvSpPr>
          <p:spPr>
            <a:xfrm>
              <a:off x="6246720" y="292248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0" name="Rectangle 87"/>
          <p:cNvSpPr/>
          <p:nvPr/>
        </p:nvSpPr>
        <p:spPr>
          <a:xfrm>
            <a:off x="4275000" y="5029200"/>
            <a:ext cx="1822680" cy="5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Aware, engaged, empowered, farmers &amp; service provider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1" name="Group 37"/>
          <p:cNvGrpSpPr/>
          <p:nvPr/>
        </p:nvGrpSpPr>
        <p:grpSpPr>
          <a:xfrm>
            <a:off x="923760" y="1100160"/>
            <a:ext cx="7823520" cy="4735440"/>
            <a:chOff x="923760" y="1100160"/>
            <a:chExt cx="7823520" cy="4735440"/>
          </a:xfrm>
        </p:grpSpPr>
        <p:sp>
          <p:nvSpPr>
            <p:cNvPr id="1802" name="Flowchart: Connector 83"/>
            <p:cNvSpPr/>
            <p:nvPr/>
          </p:nvSpPr>
          <p:spPr>
            <a:xfrm>
              <a:off x="5794560" y="129060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lowchart: Connector 85"/>
            <p:cNvSpPr/>
            <p:nvPr/>
          </p:nvSpPr>
          <p:spPr>
            <a:xfrm>
              <a:off x="8379000" y="110016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lowchart: Connector 86"/>
            <p:cNvSpPr/>
            <p:nvPr/>
          </p:nvSpPr>
          <p:spPr>
            <a:xfrm>
              <a:off x="7680600" y="545472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lowchart: Connector 89"/>
            <p:cNvSpPr/>
            <p:nvPr/>
          </p:nvSpPr>
          <p:spPr>
            <a:xfrm>
              <a:off x="5880240" y="5031000"/>
              <a:ext cx="3664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lowchart: Connector 90"/>
            <p:cNvSpPr/>
            <p:nvPr/>
          </p:nvSpPr>
          <p:spPr>
            <a:xfrm>
              <a:off x="5699160" y="3085920"/>
              <a:ext cx="3664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lowchart: Connector 91"/>
            <p:cNvSpPr/>
            <p:nvPr/>
          </p:nvSpPr>
          <p:spPr>
            <a:xfrm>
              <a:off x="923760" y="504360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TextBox 4"/>
          <p:cNvSpPr/>
          <p:nvPr/>
        </p:nvSpPr>
        <p:spPr>
          <a:xfrm>
            <a:off x="762120" y="139392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esighting activity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keholder vision of 15-20 year outcomes for target systems and geograph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ographic (problem/intervention domain) stratification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ying problem domains that reflect key differences in initial conditions (status and trends) and drivers of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TextBox 5"/>
          <p:cNvSpPr/>
          <p:nvPr/>
        </p:nvSpPr>
        <p:spPr>
          <a:xfrm>
            <a:off x="758880" y="685800"/>
            <a:ext cx="79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tential Stratification and Experimental Design Framework*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TextBox 6"/>
          <p:cNvSpPr/>
          <p:nvPr/>
        </p:nvSpPr>
        <p:spPr>
          <a:xfrm>
            <a:off x="633960" y="640080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Sustainable Intensification Hypothesis Group, Addis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-81360" y="95040"/>
            <a:ext cx="924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ographic Stratification of Target Systems/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2" name="Picture 5" descr=""/>
          <p:cNvPicPr/>
          <p:nvPr/>
        </p:nvPicPr>
        <p:blipFill>
          <a:blip r:embed="rId1"/>
          <a:stretch/>
        </p:blipFill>
        <p:spPr>
          <a:xfrm>
            <a:off x="160200" y="925560"/>
            <a:ext cx="8839440" cy="5718240"/>
          </a:xfrm>
          <a:prstGeom prst="rect">
            <a:avLst/>
          </a:prstGeom>
          <a:ln w="0">
            <a:noFill/>
          </a:ln>
        </p:spPr>
      </p:pic>
      <p:sp>
        <p:nvSpPr>
          <p:cNvPr id="1813" name="TextBox 2"/>
          <p:cNvSpPr/>
          <p:nvPr/>
        </p:nvSpPr>
        <p:spPr>
          <a:xfrm>
            <a:off x="369360" y="6489720"/>
            <a:ext cx="44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urce: Site Selection Group. Addis SI Workshop, Feb 20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TextBox 4"/>
          <p:cNvSpPr/>
          <p:nvPr/>
        </p:nvSpPr>
        <p:spPr>
          <a:xfrm>
            <a:off x="762120" y="1263600"/>
            <a:ext cx="76197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esighting activity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keholder vision of 15-20 year outcomes for target systems and geograph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graphic (problem/intervention domain) stratification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entifying problem domains that reflect key differences in initial conditions (status and trends) and drivers of ch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te-specific (farm/landscape) stratific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Sustainability and Intensification stratification within each geographic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ticulate &amp; test potential SI trajector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thin geographic and site-specific st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TextBox 5"/>
          <p:cNvSpPr/>
          <p:nvPr/>
        </p:nvSpPr>
        <p:spPr>
          <a:xfrm>
            <a:off x="758880" y="685800"/>
            <a:ext cx="79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tential Stratification and Experimental Design Framework*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TextBox 6"/>
          <p:cNvSpPr/>
          <p:nvPr/>
        </p:nvSpPr>
        <p:spPr>
          <a:xfrm>
            <a:off x="633960" y="640080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Sustainable Intensification Hypothesis Group, Addis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8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7" name="Group 58"/>
          <p:cNvGrpSpPr/>
          <p:nvPr/>
        </p:nvGrpSpPr>
        <p:grpSpPr>
          <a:xfrm>
            <a:off x="2629080" y="2057400"/>
            <a:ext cx="3085920" cy="2819520"/>
            <a:chOff x="2629080" y="2057400"/>
            <a:chExt cx="3085920" cy="2819520"/>
          </a:xfrm>
        </p:grpSpPr>
        <p:sp>
          <p:nvSpPr>
            <p:cNvPr id="1818" name="Rectangle 57"/>
            <p:cNvSpPr/>
            <p:nvPr/>
          </p:nvSpPr>
          <p:spPr>
            <a:xfrm>
              <a:off x="2629080" y="2095200"/>
              <a:ext cx="1333440" cy="136368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Straight Connector 52"/>
            <p:cNvSpPr/>
            <p:nvPr/>
          </p:nvSpPr>
          <p:spPr>
            <a:xfrm flipV="1">
              <a:off x="4114800" y="2057400"/>
              <a:ext cx="1600200" cy="18720"/>
            </a:xfrm>
            <a:prstGeom prst="line">
              <a:avLst/>
            </a:prstGeom>
            <a:ln w="28440">
              <a:solidFill>
                <a:srgbClr val="fcd5b5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Straight Connector 55"/>
            <p:cNvSpPr/>
            <p:nvPr/>
          </p:nvSpPr>
          <p:spPr>
            <a:xfrm>
              <a:off x="4086360" y="3465720"/>
              <a:ext cx="1628640" cy="1411200"/>
            </a:xfrm>
            <a:prstGeom prst="line">
              <a:avLst/>
            </a:prstGeom>
            <a:ln w="28440">
              <a:solidFill>
                <a:srgbClr val="fcd5b5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tratification &amp; SI Trajecto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TextBox 20"/>
          <p:cNvSpPr/>
          <p:nvPr/>
        </p:nvSpPr>
        <p:spPr>
          <a:xfrm>
            <a:off x="-91800" y="3019320"/>
            <a:ext cx="140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ainf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g.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3" name="Group 34"/>
          <p:cNvGrpSpPr/>
          <p:nvPr/>
        </p:nvGrpSpPr>
        <p:grpSpPr>
          <a:xfrm>
            <a:off x="1295280" y="2057400"/>
            <a:ext cx="2667240" cy="3614400"/>
            <a:chOff x="1295280" y="2057400"/>
            <a:chExt cx="2667240" cy="3614400"/>
          </a:xfrm>
        </p:grpSpPr>
        <p:grpSp>
          <p:nvGrpSpPr>
            <p:cNvPr id="1824" name="Group 9"/>
            <p:cNvGrpSpPr/>
            <p:nvPr/>
          </p:nvGrpSpPr>
          <p:grpSpPr>
            <a:xfrm>
              <a:off x="1295280" y="2057400"/>
              <a:ext cx="2667240" cy="2834280"/>
              <a:chOff x="1295280" y="2057400"/>
              <a:chExt cx="2667240" cy="2834280"/>
            </a:xfrm>
          </p:grpSpPr>
          <p:sp>
            <p:nvSpPr>
              <p:cNvPr id="1825" name="Straight Connector 4"/>
              <p:cNvSpPr/>
              <p:nvPr/>
            </p:nvSpPr>
            <p:spPr>
              <a:xfrm>
                <a:off x="1295280" y="2057400"/>
                <a:ext cx="0" cy="282024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Straight Connector 7"/>
              <p:cNvSpPr/>
              <p:nvPr/>
            </p:nvSpPr>
            <p:spPr>
              <a:xfrm>
                <a:off x="1295280" y="4891680"/>
                <a:ext cx="2667240" cy="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7" name="Straight Connector 11"/>
            <p:cNvSpPr/>
            <p:nvPr/>
          </p:nvSpPr>
          <p:spPr>
            <a:xfrm>
              <a:off x="1371240" y="2057400"/>
              <a:ext cx="25912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Straight Connector 13"/>
            <p:cNvSpPr/>
            <p:nvPr/>
          </p:nvSpPr>
          <p:spPr>
            <a:xfrm>
              <a:off x="3962520" y="2133360"/>
              <a:ext cx="0" cy="2743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Straight Connector 14"/>
            <p:cNvSpPr/>
            <p:nvPr/>
          </p:nvSpPr>
          <p:spPr>
            <a:xfrm>
              <a:off x="2629080" y="2095200"/>
              <a:ext cx="0" cy="2743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Straight Connector 15"/>
            <p:cNvSpPr/>
            <p:nvPr/>
          </p:nvSpPr>
          <p:spPr>
            <a:xfrm>
              <a:off x="1333080" y="3459240"/>
              <a:ext cx="25912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TextBox 16"/>
            <p:cNvSpPr/>
            <p:nvPr/>
          </p:nvSpPr>
          <p:spPr>
            <a:xfrm>
              <a:off x="2974680" y="2651400"/>
              <a:ext cx="65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i-H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TextBox 17"/>
            <p:cNvSpPr/>
            <p:nvPr/>
          </p:nvSpPr>
          <p:spPr>
            <a:xfrm>
              <a:off x="2972160" y="3886200"/>
              <a:ext cx="67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Lo-H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TextBox 18"/>
            <p:cNvSpPr/>
            <p:nvPr/>
          </p:nvSpPr>
          <p:spPr>
            <a:xfrm>
              <a:off x="1602000" y="388620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Lo-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TextBox 19"/>
            <p:cNvSpPr/>
            <p:nvPr/>
          </p:nvSpPr>
          <p:spPr>
            <a:xfrm>
              <a:off x="1681560" y="2651400"/>
              <a:ext cx="67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i-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TextBox 21"/>
            <p:cNvSpPr/>
            <p:nvPr/>
          </p:nvSpPr>
          <p:spPr>
            <a:xfrm>
              <a:off x="1920600" y="5029200"/>
              <a:ext cx="179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Market Potent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Pop. dens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36" name="Straight Arrow Connector 50"/>
          <p:cNvCxnSpPr/>
          <p:nvPr/>
        </p:nvCxnSpPr>
        <p:spPr>
          <a:xfrm flipV="1">
            <a:off x="6884640" y="3079440"/>
            <a:ext cx="678600" cy="8373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837" name="Group 71"/>
          <p:cNvGrpSpPr/>
          <p:nvPr/>
        </p:nvGrpSpPr>
        <p:grpSpPr>
          <a:xfrm>
            <a:off x="6805440" y="2831400"/>
            <a:ext cx="891000" cy="1588680"/>
            <a:chOff x="6805440" y="2831400"/>
            <a:chExt cx="891000" cy="1588680"/>
          </a:xfrm>
        </p:grpSpPr>
        <p:cxnSp>
          <p:nvCxnSpPr>
            <p:cNvPr id="1838" name="Straight Arrow Connector 59"/>
            <p:cNvCxnSpPr/>
            <p:nvPr/>
          </p:nvCxnSpPr>
          <p:spPr>
            <a:xfrm>
              <a:off x="6884640" y="4419360"/>
              <a:ext cx="812160" cy="1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839" name="Elbow Connector 63"/>
            <p:cNvCxnSpPr/>
            <p:nvPr/>
          </p:nvCxnSpPr>
          <p:spPr>
            <a:xfrm flipH="1" flipV="1" rot="5400000">
              <a:off x="6714720" y="2922120"/>
              <a:ext cx="786600" cy="605520"/>
            </a:xfrm>
            <a:prstGeom prst="bentConnector3">
              <a:avLst>
                <a:gd name="adj1" fmla="val 99816"/>
              </a:avLst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1840" name="TextBox 72"/>
          <p:cNvSpPr/>
          <p:nvPr/>
        </p:nvSpPr>
        <p:spPr>
          <a:xfrm>
            <a:off x="633960" y="640080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Sustainable Intensification Hypothesis Group, Addis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TextBox 73"/>
          <p:cNvSpPr/>
          <p:nvPr/>
        </p:nvSpPr>
        <p:spPr>
          <a:xfrm>
            <a:off x="1316880" y="1492200"/>
            <a:ext cx="281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Calibri"/>
              </a:rPr>
              <a:t>Geographic Stra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2" name="Group 75"/>
          <p:cNvGrpSpPr/>
          <p:nvPr/>
        </p:nvGrpSpPr>
        <p:grpSpPr>
          <a:xfrm>
            <a:off x="4311720" y="1459080"/>
            <a:ext cx="4568040" cy="3957840"/>
            <a:chOff x="4311720" y="1459080"/>
            <a:chExt cx="4568040" cy="3957840"/>
          </a:xfrm>
        </p:grpSpPr>
        <p:grpSp>
          <p:nvGrpSpPr>
            <p:cNvPr id="1843" name="Group 35"/>
            <p:cNvGrpSpPr/>
            <p:nvPr/>
          </p:nvGrpSpPr>
          <p:grpSpPr>
            <a:xfrm>
              <a:off x="4311720" y="2076480"/>
              <a:ext cx="4245480" cy="3340440"/>
              <a:chOff x="4311720" y="2076480"/>
              <a:chExt cx="4245480" cy="3340440"/>
            </a:xfrm>
          </p:grpSpPr>
          <p:grpSp>
            <p:nvGrpSpPr>
              <p:cNvPr id="1844" name="Group 36"/>
              <p:cNvGrpSpPr/>
              <p:nvPr/>
            </p:nvGrpSpPr>
            <p:grpSpPr>
              <a:xfrm>
                <a:off x="5890320" y="2076480"/>
                <a:ext cx="2666880" cy="2834640"/>
                <a:chOff x="5890320" y="2076480"/>
                <a:chExt cx="2666880" cy="2834640"/>
              </a:xfrm>
            </p:grpSpPr>
            <p:sp>
              <p:nvSpPr>
                <p:cNvPr id="1845" name="Straight Connector 46"/>
                <p:cNvSpPr/>
                <p:nvPr/>
              </p:nvSpPr>
              <p:spPr>
                <a:xfrm>
                  <a:off x="5890320" y="2076480"/>
                  <a:ext cx="0" cy="2820600"/>
                </a:xfrm>
                <a:prstGeom prst="line">
                  <a:avLst/>
                </a:prstGeom>
                <a:ln w="572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6" name="Straight Connector 47"/>
                <p:cNvSpPr/>
                <p:nvPr/>
              </p:nvSpPr>
              <p:spPr>
                <a:xfrm>
                  <a:off x="5890320" y="4911120"/>
                  <a:ext cx="2666880" cy="0"/>
                </a:xfrm>
                <a:prstGeom prst="line">
                  <a:avLst/>
                </a:prstGeom>
                <a:ln w="572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7" name="Straight Connector 37"/>
              <p:cNvSpPr/>
              <p:nvPr/>
            </p:nvSpPr>
            <p:spPr>
              <a:xfrm>
                <a:off x="5965920" y="2076480"/>
                <a:ext cx="2590920" cy="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Straight Connector 38"/>
              <p:cNvSpPr/>
              <p:nvPr/>
            </p:nvSpPr>
            <p:spPr>
              <a:xfrm>
                <a:off x="8556840" y="2152440"/>
                <a:ext cx="0" cy="27432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Straight Connector 39"/>
              <p:cNvSpPr/>
              <p:nvPr/>
            </p:nvSpPr>
            <p:spPr>
              <a:xfrm>
                <a:off x="7223400" y="2114280"/>
                <a:ext cx="0" cy="27432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Straight Connector 40"/>
              <p:cNvSpPr/>
              <p:nvPr/>
            </p:nvSpPr>
            <p:spPr>
              <a:xfrm>
                <a:off x="5927760" y="3478320"/>
                <a:ext cx="2590920" cy="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TextBox 41"/>
              <p:cNvSpPr/>
              <p:nvPr/>
            </p:nvSpPr>
            <p:spPr>
              <a:xfrm>
                <a:off x="7569720" y="2670840"/>
                <a:ext cx="653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Hi-H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TextBox 42"/>
              <p:cNvSpPr/>
              <p:nvPr/>
            </p:nvSpPr>
            <p:spPr>
              <a:xfrm>
                <a:off x="7566840" y="3905640"/>
                <a:ext cx="671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Lo-H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TextBox 43"/>
              <p:cNvSpPr/>
              <p:nvPr/>
            </p:nvSpPr>
            <p:spPr>
              <a:xfrm>
                <a:off x="6197400" y="3905640"/>
                <a:ext cx="68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Lo-L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TextBox 44"/>
              <p:cNvSpPr/>
              <p:nvPr/>
            </p:nvSpPr>
            <p:spPr>
              <a:xfrm>
                <a:off x="6276240" y="2670840"/>
                <a:ext cx="671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Hi-L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TextBox 45"/>
              <p:cNvSpPr/>
              <p:nvPr/>
            </p:nvSpPr>
            <p:spPr>
              <a:xfrm>
                <a:off x="6222960" y="5048640"/>
                <a:ext cx="204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Sustainability Inde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TextBox 48"/>
              <p:cNvSpPr/>
              <p:nvPr/>
            </p:nvSpPr>
            <p:spPr>
              <a:xfrm>
                <a:off x="4311720" y="3050280"/>
                <a:ext cx="1543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Intensific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Inde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7" name="TextBox 74"/>
            <p:cNvSpPr/>
            <p:nvPr/>
          </p:nvSpPr>
          <p:spPr>
            <a:xfrm>
              <a:off x="5515560" y="1459080"/>
              <a:ext cx="336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Calibri"/>
                </a:rPr>
                <a:t>Farm/Landscape Stratif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22:17:45Z</dcterms:created>
  <dc:creator>locadmin</dc:creator>
  <dc:description/>
  <dc:language>en-US</dc:language>
  <cp:lastModifiedBy>PBallantyne</cp:lastModifiedBy>
  <dcterms:modified xsi:type="dcterms:W3CDTF">2012-02-07T07:04:27Z</dcterms:modified>
  <cp:revision>95</cp:revision>
  <dc:subject/>
  <dc:title>PowerPoint Presentation</dc:title>
</cp:coreProperties>
</file>